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E29-AC56-4518-9E06-A899A2C7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F18-3BEA-45BA-B3F8-0162D45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4B5-51FC-471D-886A-120565F4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BF6-E9A4-481A-AF58-48B6565C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52F-DDF3-4C7C-B9D8-A2FAF991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6927-FF37-48FE-948A-2A6CC8F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E70-CB99-4AC2-AFA9-CCAD883D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C4F-785E-4377-89DE-CD72DF7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83F-9E78-4C26-8890-603A8CA8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D4C-11AC-4FCB-ADA9-22BA41B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4F0-C72B-4463-9EE1-7F850E0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0FB-34E1-47A2-9DFD-DF73839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272-43CD-46AF-BDA6-09016C9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4BF-0761-46AC-855C-1D87C65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5036-8575-453B-B5B5-74410C64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14C3-EB16-46BB-91C7-8A3E02CE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E582-8DE1-4EEE-99C7-0D380A0B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090-3E02-44CA-A717-B723EE40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387-65FE-4E28-837F-0CB97097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C6C-2B6D-4F32-A893-A437DF3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78-B907-4B62-B794-A3E8E35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EA9-821C-4D94-9015-8AF478A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E00-38D1-4372-998B-7951230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D3F-D6EA-4FAE-B7D3-B310A53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5FF1-9BB2-40D0-9C8B-04A30F0FF25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DF9-5D43-476E-96BD-8923D2B6A6E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hu.es/sbweb/fisica/unidades/unidadMedida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plus.org/movi" TargetMode="External"/><Relationship Id="rId2" Type="http://schemas.openxmlformats.org/officeDocument/2006/relationships/hyperlink" Target="http://newton.cnice.mec.es/materiales_didacticos/trayectoria/indice_trayec.htm" TargetMode="External"/><Relationship Id="rId3" Type="http://schemas.openxmlformats.org/officeDocument/2006/relationships/hyperlink" Target="http://newton.cnice.mec.es/materiales_didacticos/trayectoria/indice_trayec.htm" TargetMode="External"/><Relationship Id="rId4" Type="http://schemas.openxmlformats.org/officeDocument/2006/relationships/hyperlink" Target="http://www.educaplus.org/movi/index.html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almed.edu.co/~daristiz/virtual/mecanicaparticula/applets/applet_evaluador_desplazamiento/EvaluadorDesplazamiento.htm" TargetMode="External"/><Relationship Id="rId2" Type="http://schemas.openxmlformats.org/officeDocument/2006/relationships/hyperlink" Target="http://www.unalmed.edu.co/~daristiz/virtual/mecanicaparticula/applets/applet_evaluador_desplazamiento/EvaluadorDesplazamiento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cc"/>
                </a:solidFill>
                <a:latin typeface="Arial"/>
              </a:rPr>
              <a:t>I.</a:t>
            </a: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Fuerzas Y Movimiento.</a:t>
            </a:r>
            <a:br>
              <a:rPr sz="3200"/>
            </a:br>
            <a:br>
              <a:rPr sz="2000"/>
            </a:br>
            <a:r>
              <a:rPr b="1" lang="es-ES_tradnl" sz="1800" spc="-1" strike="noStrike">
                <a:solidFill>
                  <a:srgbClr val="9900cc"/>
                </a:solidFill>
                <a:latin typeface="Arial"/>
              </a:rPr>
              <a:t>1. Cinemática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3733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Magnitudes física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inemática (conceptos básic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splazamiento y espacio recorri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Veloc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Gráficas espacio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ráficas posición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Gráficas velocidad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Movimiento unifor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Movimiento rectilíneo unifor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Movimientos con aceleració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ovimiento rectilíneo uniformemente vari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Movimiento circular uniforme 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(magnitudes lineal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Movimiento circular uniforme I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(magnitudes angulares) (Relacion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16761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rectilíneo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11360" y="1371600"/>
            <a:ext cx="7619760" cy="2228760"/>
          </a:xfrm>
          <a:prstGeom prst="rect">
            <a:avLst/>
          </a:prstGeom>
          <a:solidFill>
            <a:srgbClr val="e7f8f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5128200" y="1955880"/>
            <a:ext cx="785880" cy="301320"/>
          </a:xfrm>
          <a:prstGeom prst="rect">
            <a:avLst/>
          </a:prstGeom>
          <a:solidFill>
            <a:srgbClr val="faedc4"/>
          </a:solidFill>
          <a:ln w="9360">
            <a:solidFill>
              <a:srgbClr val="ed9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-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r-r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149640" y="2984760"/>
            <a:ext cx="1117440" cy="301320"/>
          </a:xfrm>
          <a:prstGeom prst="rect">
            <a:avLst/>
          </a:prstGeom>
          <a:solidFill>
            <a:srgbClr val="baf4e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=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r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2844720" y="234324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2844720" y="2343240"/>
            <a:ext cx="193032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2844720" y="2343240"/>
            <a:ext cx="35560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5384880" y="2997360"/>
            <a:ext cx="914400" cy="276480"/>
          </a:xfrm>
          <a:prstGeom prst="rect">
            <a:avLst/>
          </a:prstGeom>
          <a:solidFill>
            <a:srgbClr val="baf4e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 = 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828800" y="2343240"/>
            <a:ext cx="57913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2696760" y="2418120"/>
            <a:ext cx="282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4673520" y="2286000"/>
            <a:ext cx="1727280" cy="0"/>
          </a:xfrm>
          <a:prstGeom prst="line">
            <a:avLst/>
          </a:prstGeom>
          <a:ln w="38160">
            <a:solidFill>
              <a:srgbClr val="ed9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3454560" y="1955880"/>
            <a:ext cx="406080" cy="301320"/>
          </a:xfrm>
          <a:prstGeom prst="rect">
            <a:avLst/>
          </a:prstGeom>
          <a:solidFill>
            <a:srgbClr val="9ac0f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s-ES" sz="12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4368960" y="2413080"/>
            <a:ext cx="5079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0" lang="es-ES" sz="1200" spc="-1" strike="noStrike" baseline="-25000">
                <a:solidFill>
                  <a:srgbClr val="1c1c1c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5283360" y="2425680"/>
            <a:ext cx="406080" cy="276480"/>
          </a:xfrm>
          <a:prstGeom prst="rect">
            <a:avLst/>
          </a:prstGeom>
          <a:solidFill>
            <a:srgbClr val="fdd3f1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99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6095880" y="2425680"/>
            <a:ext cx="406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2343240"/>
            <a:ext cx="0" cy="1141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4775040" y="2343240"/>
            <a:ext cx="0" cy="1141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844720" y="2286000"/>
            <a:ext cx="1828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844720" y="2400480"/>
            <a:ext cx="35560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901800" y="5832360"/>
            <a:ext cx="5570280" cy="340200"/>
          </a:xfrm>
          <a:prstGeom prst="roundRect">
            <a:avLst>
              <a:gd name="adj" fmla="val 16667"/>
            </a:avLst>
          </a:prstGeom>
          <a:solidFill>
            <a:srgbClr val="fcbef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coinciden el espacio recorrido y el módulo del desplazamient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AutoShape 22"/>
          <p:cNvSpPr/>
          <p:nvPr/>
        </p:nvSpPr>
        <p:spPr>
          <a:xfrm>
            <a:off x="1507680" y="5032440"/>
            <a:ext cx="4289040" cy="340200"/>
          </a:xfrm>
          <a:prstGeom prst="roundRect">
            <a:avLst>
              <a:gd name="adj" fmla="val 16667"/>
            </a:avLst>
          </a:prstGeom>
          <a:solidFill>
            <a:srgbClr val="c3ab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coinciden la rapidez y el módulo de la veloci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>
            <a:off x="3616560" y="3902040"/>
            <a:ext cx="2460240" cy="340200"/>
          </a:xfrm>
          <a:prstGeom prst="roundRect">
            <a:avLst>
              <a:gd name="adj" fmla="val 16667"/>
            </a:avLst>
          </a:prstGeom>
          <a:solidFill>
            <a:srgbClr val="9cf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  trayectoria es rectilíne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AutoShape 24"/>
          <p:cNvSpPr/>
          <p:nvPr/>
        </p:nvSpPr>
        <p:spPr>
          <a:xfrm>
            <a:off x="3099600" y="4473360"/>
            <a:ext cx="5156280" cy="340200"/>
          </a:xfrm>
          <a:prstGeom prst="roundRect">
            <a:avLst>
              <a:gd name="adj" fmla="val 16667"/>
            </a:avLst>
          </a:prstGeom>
          <a:solidFill>
            <a:srgbClr val="7ce6e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a velocidad es constante en módulo,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dirección y sentido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AutoShape 25"/>
          <p:cNvSpPr/>
          <p:nvPr/>
        </p:nvSpPr>
        <p:spPr>
          <a:xfrm rot="5400000">
            <a:off x="1397880" y="3107520"/>
            <a:ext cx="910440" cy="2335320"/>
          </a:xfrm>
          <a:prstGeom prst="upArrowCallout">
            <a:avLst>
              <a:gd name="adj1" fmla="val 32309"/>
              <a:gd name="adj2" fmla="val 26292"/>
              <a:gd name="adj3" fmla="val 53177"/>
              <a:gd name="adj4" fmla="val 65040"/>
            </a:avLst>
          </a:prstGeom>
          <a:solidFill>
            <a:srgbClr val="1fef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rectilíneo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6173640" y="5099400"/>
            <a:ext cx="2257560" cy="824400"/>
          </a:xfrm>
          <a:prstGeom prst="leftArrowCallout">
            <a:avLst>
              <a:gd name="adj1" fmla="val 29781"/>
              <a:gd name="adj2" fmla="val 33880"/>
              <a:gd name="adj3" fmla="val 61969"/>
              <a:gd name="adj4" fmla="val 64099"/>
            </a:avLst>
          </a:prstGeom>
          <a:solidFill>
            <a:srgbClr val="b184f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ara este tipo de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AutoShape 27"/>
          <p:cNvSpPr/>
          <p:nvPr/>
        </p:nvSpPr>
        <p:spPr>
          <a:xfrm>
            <a:off x="1760400" y="168840"/>
            <a:ext cx="5851800" cy="1039680"/>
          </a:xfrm>
          <a:custGeom>
            <a:avLst/>
            <a:gdLst>
              <a:gd name="textAreaLeft" fmla="*/ 122400 w 5851800"/>
              <a:gd name="textAreaRight" fmla="*/ 5729400 w 5851800"/>
              <a:gd name="textAreaTop" fmla="*/ 122400 h 1039680"/>
              <a:gd name="textAreaBottom" fmla="*/ 917280 h 1039680"/>
            </a:gdLst>
            <a:ahLst/>
            <a:rect l="textAreaLeft" t="textAreaTop" r="textAreaRight" b="textAreaBottom"/>
            <a:pathLst>
              <a:path w="1215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7940" y="21600"/>
                </a:lnTo>
                <a:arcTo wR="3600" hR="3600" stAng="10800000" swAng="5400000"/>
                <a:lnTo>
                  <a:pt x="121540" y="3600"/>
                </a:lnTo>
                <a:arcTo wR="3600" hR="3600" stAng="5400000" swAng="5400000"/>
                <a:close/>
              </a:path>
            </a:pathLst>
          </a:custGeom>
          <a:solidFill>
            <a:srgbClr val="1ede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RECTILÍNEO UNIFORM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12636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Movimientos Con Aceleración</a:t>
            </a:r>
            <a:br>
              <a:rPr sz="2000"/>
            </a:b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Movimiento Rectilíneo Uniforme</a:t>
            </a:r>
            <a:endParaRPr b="1" lang="en-US" sz="2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1143000" y="142560"/>
            <a:ext cx="6897600" cy="680040"/>
          </a:xfrm>
          <a:custGeom>
            <a:avLst/>
            <a:gdLst>
              <a:gd name="textAreaLeft" fmla="*/ 79920 w 6897600"/>
              <a:gd name="textAreaRight" fmla="*/ 6817680 w 6897600"/>
              <a:gd name="textAreaTop" fmla="*/ 79920 h 680040"/>
              <a:gd name="textAreaBottom" fmla="*/ 600120 h 680040"/>
            </a:gdLst>
            <a:ahLst/>
            <a:rect l="textAreaLeft" t="textAreaTop" r="textAreaRight" b="textAreaBottom"/>
            <a:pathLst>
              <a:path w="2189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5383" y="21600"/>
                </a:lnTo>
                <a:arcTo wR="3600" hR="3600" stAng="10800000" swAng="5400000"/>
                <a:lnTo>
                  <a:pt x="218983" y="3600"/>
                </a:lnTo>
                <a:arcTo wR="3600" hR="3600" stAng="5400000" swAng="5400000"/>
                <a:close/>
              </a:path>
            </a:pathLst>
          </a:custGeom>
          <a:solidFill>
            <a:srgbClr val="74f2d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MOVIMIENTOS CON ACELERACIÓ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MOVIMIENTO RECTILÍNEO UNIFORMEMENTE VARIAD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219320" y="914400"/>
            <a:ext cx="6705360" cy="459000"/>
          </a:xfrm>
          <a:prstGeom prst="rect">
            <a:avLst/>
          </a:prstGeom>
          <a:solidFill>
            <a:srgbClr val="d8f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CELERA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a magnitud que informa de los cambios de velocidad.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En el S.I se mide en m/s</a:t>
            </a:r>
            <a:r>
              <a:rPr b="0" lang="es-ES" sz="1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923160" y="994320"/>
            <a:ext cx="813240" cy="276480"/>
          </a:xfrm>
          <a:prstGeom prst="rect">
            <a:avLst/>
          </a:prstGeom>
          <a:solidFill>
            <a:srgbClr val="f8f8f8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a =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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/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 rot="5400000">
            <a:off x="1260360" y="654120"/>
            <a:ext cx="727920" cy="2335320"/>
          </a:xfrm>
          <a:prstGeom prst="upArrowCallout">
            <a:avLst>
              <a:gd name="adj1" fmla="val 32309"/>
              <a:gd name="adj2" fmla="val 26292"/>
              <a:gd name="adj3" fmla="val 66511"/>
              <a:gd name="adj4" fmla="val 65040"/>
            </a:avLst>
          </a:prstGeom>
          <a:solidFill>
            <a:srgbClr val="7efaa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rectilíneo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2814840" y="1523880"/>
            <a:ext cx="2460240" cy="340200"/>
          </a:xfrm>
          <a:prstGeom prst="roundRect">
            <a:avLst>
              <a:gd name="adj" fmla="val 16667"/>
            </a:avLst>
          </a:prstGeom>
          <a:solidFill>
            <a:srgbClr val="cafa9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  trayectoria es rectilíne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2805840" y="1904760"/>
            <a:ext cx="5416920" cy="340200"/>
          </a:xfrm>
          <a:prstGeom prst="roundRect">
            <a:avLst>
              <a:gd name="adj" fmla="val 16667"/>
            </a:avLst>
          </a:prstGeom>
          <a:solidFill>
            <a:srgbClr val="dafb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a aceleración es constante en módulo , dirección y sentido.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7010280" y="2518200"/>
            <a:ext cx="1800360" cy="641880"/>
          </a:xfrm>
          <a:prstGeom prst="leftArrowCallout">
            <a:avLst>
              <a:gd name="adj1" fmla="val 29781"/>
              <a:gd name="adj2" fmla="val 33880"/>
              <a:gd name="adj3" fmla="val 63472"/>
              <a:gd name="adj4" fmla="val 64099"/>
            </a:avLst>
          </a:prstGeom>
          <a:solidFill>
            <a:srgbClr val="f6d26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ara este tipo de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457200" y="2566080"/>
            <a:ext cx="6324480" cy="507960"/>
          </a:xfrm>
          <a:prstGeom prst="roundRect">
            <a:avLst>
              <a:gd name="adj" fmla="val 16667"/>
            </a:avLst>
          </a:prstGeom>
          <a:solidFill>
            <a:srgbClr val="fcc39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- 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 La velocidad varía la misma cantidad para un mismo tiempo ( varía uniformemente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518040" y="2286000"/>
            <a:ext cx="6089040" cy="340200"/>
          </a:xfrm>
          <a:prstGeom prst="roundRect">
            <a:avLst>
              <a:gd name="adj" fmla="val 16667"/>
            </a:avLst>
          </a:prstGeom>
          <a:solidFill>
            <a:srgbClr val="fcf3b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l vector velocidad y el vector aceleración tienen la misma dirección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1676520" y="2971800"/>
            <a:ext cx="4114800" cy="306000"/>
          </a:xfrm>
          <a:prstGeom prst="roundRect">
            <a:avLst>
              <a:gd name="adj" fmla="val 16667"/>
            </a:avLst>
          </a:prstGeom>
          <a:solidFill>
            <a:srgbClr val="fbde8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aceleración media coincide con la instantánea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04920" y="3356640"/>
            <a:ext cx="8458200" cy="246240"/>
          </a:xfrm>
          <a:prstGeom prst="rect">
            <a:avLst/>
          </a:prstGeom>
          <a:solidFill>
            <a:srgbClr val="49b5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Si el vector velocidad y el vector aceleración tienen el mismo sentido  la velocidad aumenta su valor y el movimiento será </a:t>
            </a:r>
            <a:r>
              <a:rPr b="1" lang="es-ES_tradnl" sz="1000" spc="-1" strike="noStrike" u="sng">
                <a:solidFill>
                  <a:srgbClr val="000066"/>
                </a:solidFill>
                <a:uFillTx/>
                <a:latin typeface="Arial"/>
              </a:rPr>
              <a:t>acelerad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380880" y="4804560"/>
            <a:ext cx="8458200" cy="246240"/>
          </a:xfrm>
          <a:prstGeom prst="rect">
            <a:avLst/>
          </a:prstGeom>
          <a:solidFill>
            <a:srgbClr val="68f6a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Si el vector velocidad y el vector aceleración tienen sentidos contrarios la velocidad disminuye su valor y el movimiento será </a:t>
            </a:r>
            <a:r>
              <a:rPr b="1" lang="es-ES_tradnl" sz="1000" spc="-1" strike="noStrike" u="sng">
                <a:solidFill>
                  <a:srgbClr val="000066"/>
                </a:solidFill>
                <a:uFillTx/>
                <a:latin typeface="Arial"/>
              </a:rPr>
              <a:t>retardado</a:t>
            </a: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380880" y="3657600"/>
            <a:ext cx="1828800" cy="1007640"/>
            <a:chOff x="380880" y="3657600"/>
            <a:chExt cx="1828800" cy="1007640"/>
          </a:xfrm>
        </p:grpSpPr>
        <p:sp>
          <p:nvSpPr>
            <p:cNvPr id="364" name="Rectangle 16"/>
            <p:cNvSpPr/>
            <p:nvPr/>
          </p:nvSpPr>
          <p:spPr>
            <a:xfrm>
              <a:off x="380880" y="3657600"/>
              <a:ext cx="1828800" cy="100764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su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800280" y="451008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1054080" y="45100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19"/>
            <p:cNvSpPr/>
            <p:nvPr/>
          </p:nvSpPr>
          <p:spPr>
            <a:xfrm>
              <a:off x="990720" y="4419720"/>
              <a:ext cx="1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Line 20"/>
            <p:cNvSpPr/>
            <p:nvPr/>
          </p:nvSpPr>
          <p:spPr>
            <a:xfrm>
              <a:off x="928800" y="44197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9" name="Group 21"/>
          <p:cNvGrpSpPr/>
          <p:nvPr/>
        </p:nvGrpSpPr>
        <p:grpSpPr>
          <a:xfrm>
            <a:off x="2438280" y="3657600"/>
            <a:ext cx="1795680" cy="1068120"/>
            <a:chOff x="2438280" y="3657600"/>
            <a:chExt cx="1795680" cy="1068120"/>
          </a:xfrm>
        </p:grpSpPr>
        <p:sp>
          <p:nvSpPr>
            <p:cNvPr id="370" name="Rectangle 22"/>
            <p:cNvSpPr/>
            <p:nvPr/>
          </p:nvSpPr>
          <p:spPr>
            <a:xfrm>
              <a:off x="2438280" y="3657600"/>
              <a:ext cx="1795680" cy="106812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su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Line 23"/>
            <p:cNvSpPr/>
            <p:nvPr/>
          </p:nvSpPr>
          <p:spPr>
            <a:xfrm>
              <a:off x="2895480" y="4495680"/>
              <a:ext cx="7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Line 24"/>
            <p:cNvSpPr/>
            <p:nvPr/>
          </p:nvSpPr>
          <p:spPr>
            <a:xfrm flipH="1">
              <a:off x="2984400" y="449568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 flipH="1">
              <a:off x="3158640" y="440532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26"/>
            <p:cNvSpPr/>
            <p:nvPr/>
          </p:nvSpPr>
          <p:spPr>
            <a:xfrm>
              <a:off x="3508200" y="44053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6781680" y="3657600"/>
            <a:ext cx="1752480" cy="1007640"/>
            <a:chOff x="6781680" y="3657600"/>
            <a:chExt cx="1752480" cy="1007640"/>
          </a:xfrm>
        </p:grpSpPr>
        <p:sp>
          <p:nvSpPr>
            <p:cNvPr id="376" name="Rectangle 28"/>
            <p:cNvSpPr/>
            <p:nvPr/>
          </p:nvSpPr>
          <p:spPr>
            <a:xfrm>
              <a:off x="6781680" y="3657600"/>
              <a:ext cx="1752480" cy="100764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7028280" y="4551480"/>
              <a:ext cx="136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 flipH="1">
              <a:off x="7255440" y="4551480"/>
              <a:ext cx="56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 flipH="1">
              <a:off x="7711920" y="446292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>
              <a:off x="7255800" y="446292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1" name="Group 33"/>
          <p:cNvGrpSpPr/>
          <p:nvPr/>
        </p:nvGrpSpPr>
        <p:grpSpPr>
          <a:xfrm>
            <a:off x="4648320" y="3657600"/>
            <a:ext cx="1828800" cy="1098360"/>
            <a:chOff x="4648320" y="3657600"/>
            <a:chExt cx="1828800" cy="1098360"/>
          </a:xfrm>
        </p:grpSpPr>
        <p:sp>
          <p:nvSpPr>
            <p:cNvPr id="382" name="Rectangle 34"/>
            <p:cNvSpPr/>
            <p:nvPr/>
          </p:nvSpPr>
          <p:spPr>
            <a:xfrm>
              <a:off x="4648320" y="3657600"/>
              <a:ext cx="1828800" cy="109836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 V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35"/>
            <p:cNvSpPr/>
            <p:nvPr/>
          </p:nvSpPr>
          <p:spPr>
            <a:xfrm>
              <a:off x="5694480" y="4495680"/>
              <a:ext cx="144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36"/>
            <p:cNvSpPr/>
            <p:nvPr/>
          </p:nvSpPr>
          <p:spPr>
            <a:xfrm>
              <a:off x="5334120" y="4572000"/>
              <a:ext cx="46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37"/>
            <p:cNvSpPr/>
            <p:nvPr/>
          </p:nvSpPr>
          <p:spPr>
            <a:xfrm>
              <a:off x="5068800" y="4495680"/>
              <a:ext cx="311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8"/>
            <p:cNvSpPr/>
            <p:nvPr/>
          </p:nvSpPr>
          <p:spPr>
            <a:xfrm>
              <a:off x="5029200" y="4572000"/>
              <a:ext cx="133020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39"/>
          <p:cNvGrpSpPr/>
          <p:nvPr/>
        </p:nvGrpSpPr>
        <p:grpSpPr>
          <a:xfrm>
            <a:off x="380880" y="5105520"/>
            <a:ext cx="1828800" cy="1159920"/>
            <a:chOff x="380880" y="5105520"/>
            <a:chExt cx="1828800" cy="1159920"/>
          </a:xfrm>
        </p:grpSpPr>
        <p:sp>
          <p:nvSpPr>
            <p:cNvPr id="388" name="Rectangle 40"/>
            <p:cNvSpPr/>
            <p:nvPr/>
          </p:nvSpPr>
          <p:spPr>
            <a:xfrm>
              <a:off x="38088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 disminuyendo V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41"/>
            <p:cNvSpPr/>
            <p:nvPr/>
          </p:nvSpPr>
          <p:spPr>
            <a:xfrm>
              <a:off x="838080" y="609588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>
              <a:off x="1477800" y="6005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>
              <a:off x="1203480" y="6095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4"/>
            <p:cNvSpPr/>
            <p:nvPr/>
          </p:nvSpPr>
          <p:spPr>
            <a:xfrm>
              <a:off x="1020600" y="600552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3" name="Group 45"/>
          <p:cNvGrpSpPr/>
          <p:nvPr/>
        </p:nvGrpSpPr>
        <p:grpSpPr>
          <a:xfrm>
            <a:off x="2438280" y="5105520"/>
            <a:ext cx="1828800" cy="1159920"/>
            <a:chOff x="2438280" y="5105520"/>
            <a:chExt cx="1828800" cy="1159920"/>
          </a:xfrm>
        </p:grpSpPr>
        <p:sp>
          <p:nvSpPr>
            <p:cNvPr id="394" name="Rectangle 46"/>
            <p:cNvSpPr/>
            <p:nvPr/>
          </p:nvSpPr>
          <p:spPr>
            <a:xfrm>
              <a:off x="243828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Se aleja del origen en sentido negativo 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7"/>
            <p:cNvSpPr/>
            <p:nvPr/>
          </p:nvSpPr>
          <p:spPr>
            <a:xfrm>
              <a:off x="2743200" y="601992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8"/>
            <p:cNvSpPr/>
            <p:nvPr/>
          </p:nvSpPr>
          <p:spPr>
            <a:xfrm flipH="1">
              <a:off x="29257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9"/>
            <p:cNvSpPr/>
            <p:nvPr/>
          </p:nvSpPr>
          <p:spPr>
            <a:xfrm flipH="1">
              <a:off x="3292200" y="59292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50"/>
            <p:cNvSpPr/>
            <p:nvPr/>
          </p:nvSpPr>
          <p:spPr>
            <a:xfrm>
              <a:off x="292572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9" name="Group 51"/>
          <p:cNvGrpSpPr/>
          <p:nvPr/>
        </p:nvGrpSpPr>
        <p:grpSpPr>
          <a:xfrm>
            <a:off x="4648320" y="5105520"/>
            <a:ext cx="1828800" cy="1159920"/>
            <a:chOff x="4648320" y="5105520"/>
            <a:chExt cx="1828800" cy="1159920"/>
          </a:xfrm>
        </p:grpSpPr>
        <p:sp>
          <p:nvSpPr>
            <p:cNvPr id="400" name="Rectangle 52"/>
            <p:cNvSpPr/>
            <p:nvPr/>
          </p:nvSpPr>
          <p:spPr>
            <a:xfrm>
              <a:off x="464832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 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Line 53"/>
            <p:cNvSpPr/>
            <p:nvPr/>
          </p:nvSpPr>
          <p:spPr>
            <a:xfrm>
              <a:off x="4983120" y="6019920"/>
              <a:ext cx="10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Line 54"/>
            <p:cNvSpPr/>
            <p:nvPr/>
          </p:nvSpPr>
          <p:spPr>
            <a:xfrm>
              <a:off x="525780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Line 55"/>
            <p:cNvSpPr/>
            <p:nvPr/>
          </p:nvSpPr>
          <p:spPr>
            <a:xfrm flipH="1">
              <a:off x="5349600" y="59292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56"/>
            <p:cNvSpPr/>
            <p:nvPr/>
          </p:nvSpPr>
          <p:spPr>
            <a:xfrm>
              <a:off x="580716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5" name="Group 57"/>
          <p:cNvGrpSpPr/>
          <p:nvPr/>
        </p:nvGrpSpPr>
        <p:grpSpPr>
          <a:xfrm>
            <a:off x="6858000" y="5105520"/>
            <a:ext cx="1828800" cy="1159920"/>
            <a:chOff x="6858000" y="5105520"/>
            <a:chExt cx="1828800" cy="1159920"/>
          </a:xfrm>
        </p:grpSpPr>
        <p:sp>
          <p:nvSpPr>
            <p:cNvPr id="406" name="Rectangle 58"/>
            <p:cNvSpPr/>
            <p:nvPr/>
          </p:nvSpPr>
          <p:spPr>
            <a:xfrm>
              <a:off x="685800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 Se acerca origen en sentido nega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59"/>
            <p:cNvSpPr/>
            <p:nvPr/>
          </p:nvSpPr>
          <p:spPr>
            <a:xfrm>
              <a:off x="7315200" y="601992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60"/>
            <p:cNvSpPr/>
            <p:nvPr/>
          </p:nvSpPr>
          <p:spPr>
            <a:xfrm>
              <a:off x="740736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61"/>
            <p:cNvSpPr/>
            <p:nvPr/>
          </p:nvSpPr>
          <p:spPr>
            <a:xfrm flipH="1">
              <a:off x="740736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62"/>
            <p:cNvSpPr/>
            <p:nvPr/>
          </p:nvSpPr>
          <p:spPr>
            <a:xfrm>
              <a:off x="7589880" y="59292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81280" y="441972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circular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6781680" y="5334120"/>
            <a:ext cx="1067040" cy="857520"/>
            <a:chOff x="6781680" y="5334120"/>
            <a:chExt cx="1067040" cy="857520"/>
          </a:xfrm>
        </p:grpSpPr>
        <p:sp>
          <p:nvSpPr>
            <p:cNvPr id="413" name="Text Box 4"/>
            <p:cNvSpPr/>
            <p:nvPr/>
          </p:nvSpPr>
          <p:spPr>
            <a:xfrm>
              <a:off x="6781680" y="5334120"/>
              <a:ext cx="1067040" cy="85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1" lang="es-ES" sz="16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r>
                <a:rPr b="1" lang="es-ES" sz="1600" spc="-1" strike="noStrike" baseline="-25000">
                  <a:solidFill>
                    <a:srgbClr val="000066"/>
                  </a:solidFill>
                  <a:latin typeface="Times New Roman"/>
                </a:rPr>
                <a:t>n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  =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s-ES_tradnl" sz="16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5"/>
            <p:cNvSpPr/>
            <p:nvPr/>
          </p:nvSpPr>
          <p:spPr>
            <a:xfrm>
              <a:off x="7391520" y="57913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5" name="AutoShape 6"/>
          <p:cNvSpPr/>
          <p:nvPr/>
        </p:nvSpPr>
        <p:spPr>
          <a:xfrm rot="5400000">
            <a:off x="1816560" y="-79920"/>
            <a:ext cx="727920" cy="3348000"/>
          </a:xfrm>
          <a:prstGeom prst="upArrowCallout">
            <a:avLst>
              <a:gd name="adj1" fmla="val 15483"/>
              <a:gd name="adj2" fmla="val 17722"/>
              <a:gd name="adj3" fmla="val 101953"/>
              <a:gd name="adj4" fmla="val 58224"/>
            </a:avLst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266360" y="1600200"/>
            <a:ext cx="3868920" cy="507960"/>
          </a:xfrm>
          <a:prstGeom prst="roundRect">
            <a:avLst>
              <a:gd name="adj" fmla="val 16667"/>
            </a:avLst>
          </a:prstGeom>
          <a:solidFill>
            <a:srgbClr val="fae6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móvil recorre arcos iguales en tiempos iguales,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or tanto, la velocidad angular es consta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87880" y="1174680"/>
            <a:ext cx="2014920" cy="306000"/>
          </a:xfrm>
          <a:prstGeom prst="roundRect">
            <a:avLst>
              <a:gd name="adj" fmla="val 16667"/>
            </a:avLst>
          </a:prstGeom>
          <a:solidFill>
            <a:srgbClr val="fffdb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 trayectoria es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ircula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2209680" y="2289600"/>
            <a:ext cx="4191120" cy="307080"/>
          </a:xfrm>
          <a:prstGeom prst="rect">
            <a:avLst/>
          </a:prstGeom>
          <a:solidFill>
            <a:srgbClr val="f0fa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imes New Roman"/>
              </a:rPr>
              <a:t>Se pueden describir magnitudes lineales y angular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3429000" y="2746800"/>
            <a:ext cx="5410080" cy="48960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PACIO LINEAL O ARCO RECORRIDO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la longitud recorrida por el móvil medida sobre la 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429000" y="3281040"/>
            <a:ext cx="5334120" cy="51984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 LINEAL  v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vector de módulo constante pero de dirección variable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3581280" y="3831120"/>
            <a:ext cx="5079960" cy="124992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l vector velocidad es un vector tangente a l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trayectoria que va cambiando de dirección 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medida que avanza el móvil,   por est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el movimient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circular uniforme es un movimiento acelerad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685800" y="5478480"/>
            <a:ext cx="5791320" cy="544680"/>
          </a:xfrm>
          <a:prstGeom prst="rect">
            <a:avLst/>
          </a:prstGeom>
          <a:solidFill>
            <a:srgbClr val="fb986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CELERACIÓN NORMAL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l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 magnitud que informa del cambio de dirección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del vector velocidad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380880" y="2643480"/>
            <a:ext cx="2286000" cy="993240"/>
          </a:xfrm>
          <a:prstGeom prst="ellipse">
            <a:avLst/>
          </a:pr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LINEAL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Oval 15"/>
          <p:cNvSpPr/>
          <p:nvPr/>
        </p:nvSpPr>
        <p:spPr>
          <a:xfrm>
            <a:off x="914400" y="4114800"/>
            <a:ext cx="12002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133720" y="4572000"/>
            <a:ext cx="0" cy="4269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 flipH="1">
            <a:off x="914040" y="5029200"/>
            <a:ext cx="50796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1600200" y="4114800"/>
            <a:ext cx="53352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19"/>
          <p:cNvSpPr/>
          <p:nvPr/>
        </p:nvSpPr>
        <p:spPr>
          <a:xfrm flipV="1">
            <a:off x="914400" y="403848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9" name="Group 20"/>
          <p:cNvGrpSpPr/>
          <p:nvPr/>
        </p:nvGrpSpPr>
        <p:grpSpPr>
          <a:xfrm>
            <a:off x="2209680" y="4499280"/>
            <a:ext cx="304920" cy="276480"/>
            <a:chOff x="2209680" y="4499280"/>
            <a:chExt cx="304920" cy="276480"/>
          </a:xfrm>
        </p:grpSpPr>
        <p:sp>
          <p:nvSpPr>
            <p:cNvPr id="430" name="Rectangle 21"/>
            <p:cNvSpPr/>
            <p:nvPr/>
          </p:nvSpPr>
          <p:spPr>
            <a:xfrm>
              <a:off x="2209680" y="449928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 flipH="1">
              <a:off x="2285640" y="456228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2" name="Group 23"/>
          <p:cNvGrpSpPr/>
          <p:nvPr/>
        </p:nvGrpSpPr>
        <p:grpSpPr>
          <a:xfrm>
            <a:off x="990720" y="5109120"/>
            <a:ext cx="304560" cy="276480"/>
            <a:chOff x="990720" y="5109120"/>
            <a:chExt cx="304560" cy="276480"/>
          </a:xfrm>
        </p:grpSpPr>
        <p:sp>
          <p:nvSpPr>
            <p:cNvPr id="433" name="Rectangle 24"/>
            <p:cNvSpPr/>
            <p:nvPr/>
          </p:nvSpPr>
          <p:spPr>
            <a:xfrm>
              <a:off x="990720" y="5109120"/>
              <a:ext cx="30456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H="1">
              <a:off x="1066680" y="5172120"/>
              <a:ext cx="151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5" name="Group 26"/>
          <p:cNvGrpSpPr/>
          <p:nvPr/>
        </p:nvGrpSpPr>
        <p:grpSpPr>
          <a:xfrm>
            <a:off x="457200" y="3966120"/>
            <a:ext cx="304920" cy="276480"/>
            <a:chOff x="457200" y="3966120"/>
            <a:chExt cx="304920" cy="276480"/>
          </a:xfrm>
        </p:grpSpPr>
        <p:sp>
          <p:nvSpPr>
            <p:cNvPr id="436" name="Rectangle 27"/>
            <p:cNvSpPr/>
            <p:nvPr/>
          </p:nvSpPr>
          <p:spPr>
            <a:xfrm>
              <a:off x="457200" y="396612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 flipH="1">
              <a:off x="533160" y="40291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8" name="Group 29"/>
          <p:cNvGrpSpPr/>
          <p:nvPr/>
        </p:nvGrpSpPr>
        <p:grpSpPr>
          <a:xfrm>
            <a:off x="1828800" y="3737520"/>
            <a:ext cx="304920" cy="276480"/>
            <a:chOff x="1828800" y="3737520"/>
            <a:chExt cx="304920" cy="276480"/>
          </a:xfrm>
        </p:grpSpPr>
        <p:sp>
          <p:nvSpPr>
            <p:cNvPr id="439" name="Rectangle 30"/>
            <p:cNvSpPr/>
            <p:nvPr/>
          </p:nvSpPr>
          <p:spPr>
            <a:xfrm>
              <a:off x="1828800" y="373752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 flipH="1">
              <a:off x="1904760" y="38005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AutoShape 32"/>
          <p:cNvSpPr/>
          <p:nvPr/>
        </p:nvSpPr>
        <p:spPr>
          <a:xfrm>
            <a:off x="2057400" y="119880"/>
            <a:ext cx="5413320" cy="1039680"/>
          </a:xfrm>
          <a:custGeom>
            <a:avLst/>
            <a:gdLst>
              <a:gd name="textAreaLeft" fmla="*/ 122400 w 5413320"/>
              <a:gd name="textAreaRight" fmla="*/ 5290920 w 5413320"/>
              <a:gd name="textAreaTop" fmla="*/ 122400 h 1039680"/>
              <a:gd name="textAreaBottom" fmla="*/ 917280 h 1039680"/>
            </a:gdLst>
            <a:ahLst/>
            <a:rect l="textAreaLeft" t="textAreaTop" r="textAreaRight" b="textAreaBottom"/>
            <a:pathLst>
              <a:path w="1124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834" y="21600"/>
                </a:lnTo>
                <a:arcTo wR="3600" hR="3600" stAng="10800000" swAng="5400000"/>
                <a:lnTo>
                  <a:pt x="112434" y="3600"/>
                </a:lnTo>
                <a:arcTo wR="3600" hR="3600" stAng="5400000" swAng="5400000"/>
                <a:close/>
              </a:path>
            </a:pathLst>
          </a:custGeom>
          <a:solidFill>
            <a:srgbClr val="e2d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UNIFORME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42" name="AutoShape 33"/>
          <p:cNvCxnSpPr>
            <a:stCxn id="423" idx="6"/>
            <a:endCxn id="419" idx="1"/>
          </p:cNvCxnSpPr>
          <p:nvPr/>
        </p:nvCxnSpPr>
        <p:spPr>
          <a:xfrm flipV="1">
            <a:off x="2666520" y="2991960"/>
            <a:ext cx="762840" cy="14832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43" name="AutoShape 34"/>
          <p:cNvCxnSpPr>
            <a:stCxn id="423" idx="6"/>
            <a:endCxn id="420" idx="1"/>
          </p:cNvCxnSpPr>
          <p:nvPr/>
        </p:nvCxnSpPr>
        <p:spPr>
          <a:xfrm>
            <a:off x="2666520" y="3139920"/>
            <a:ext cx="762840" cy="40248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44" name="AutoShape 35"/>
          <p:cNvCxnSpPr>
            <a:stCxn id="423" idx="6"/>
            <a:endCxn id="422" idx="0"/>
          </p:cNvCxnSpPr>
          <p:nvPr/>
        </p:nvCxnSpPr>
        <p:spPr>
          <a:xfrm>
            <a:off x="2666880" y="3139920"/>
            <a:ext cx="915120" cy="234720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240" y="4723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circular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2286000" y="2666880"/>
            <a:ext cx="5257800" cy="64152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 ANGULAR  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ociente entre el ángulo girado por el radio y el tiempo invertid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2057400" y="371520"/>
            <a:ext cx="5369040" cy="481320"/>
          </a:xfrm>
          <a:custGeom>
            <a:avLst/>
            <a:gdLst>
              <a:gd name="textAreaLeft" fmla="*/ 56520 w 5369040"/>
              <a:gd name="textAreaRight" fmla="*/ 5312520 w 5369040"/>
              <a:gd name="textAreaTop" fmla="*/ 56520 h 481320"/>
              <a:gd name="textAreaBottom" fmla="*/ 424800 h 481320"/>
            </a:gdLst>
            <a:ahLst/>
            <a:rect l="textAreaLeft" t="textAreaTop" r="textAreaRight" b="textAreaBottom"/>
            <a:pathLst>
              <a:path w="2407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7180" y="21600"/>
                </a:lnTo>
                <a:arcTo wR="3600" hR="3600" stAng="10800000" swAng="5400000"/>
                <a:lnTo>
                  <a:pt x="240780" y="3600"/>
                </a:lnTo>
                <a:arcTo wR="3600" hR="3600" stAng="5400000" swAng="5400000"/>
                <a:close/>
              </a:path>
            </a:pathLst>
          </a:custGeom>
          <a:solidFill>
            <a:srgbClr val="e2d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UNIFORME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II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457200" y="1652760"/>
            <a:ext cx="2286000" cy="993240"/>
          </a:xfrm>
          <a:prstGeom prst="ellipse">
            <a:avLst/>
          </a:pr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ANGULAR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2133720" y="994320"/>
            <a:ext cx="5181480" cy="45900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PACIO ANGULAR O ÁNGULO DESCRITO POR EL RADI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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e puede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expresar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en 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267080" y="2365920"/>
            <a:ext cx="1676520" cy="246240"/>
          </a:xfrm>
          <a:prstGeom prst="rect">
            <a:avLst/>
          </a:prstGeom>
          <a:solidFill>
            <a:srgbClr val="fb9d7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1rev = 360º = 2</a:t>
            </a:r>
            <a:r>
              <a:rPr b="1" lang="es-ES_tradnl" sz="1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 rad</a:t>
            </a:r>
            <a:r>
              <a:rPr b="1" lang="es-ES" sz="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4420800" y="1451520"/>
            <a:ext cx="2294640" cy="27648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a circunferencia tiene 360º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4267080" y="1756440"/>
            <a:ext cx="4419720" cy="27648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a revolución es una vuelta completa a la circunferenc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114800" y="1878840"/>
            <a:ext cx="4800600" cy="64152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 radián es el valor del ángulo cuyo arco coincide con el radio</a:t>
            </a:r>
            <a:r>
              <a:rPr b="0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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2819520" y="1451520"/>
            <a:ext cx="83808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grados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2822760" y="1756080"/>
            <a:ext cx="127944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revolucion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2819520" y="2061000"/>
            <a:ext cx="99036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radian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7" name="Group 14"/>
          <p:cNvGrpSpPr/>
          <p:nvPr/>
        </p:nvGrpSpPr>
        <p:grpSpPr>
          <a:xfrm>
            <a:off x="7543800" y="446760"/>
            <a:ext cx="990720" cy="1554120"/>
            <a:chOff x="7543800" y="446760"/>
            <a:chExt cx="990720" cy="1554120"/>
          </a:xfrm>
        </p:grpSpPr>
        <p:sp>
          <p:nvSpPr>
            <p:cNvPr id="458" name="Rectangle 15"/>
            <p:cNvSpPr/>
            <p:nvPr/>
          </p:nvSpPr>
          <p:spPr>
            <a:xfrm>
              <a:off x="7543800" y="446760"/>
              <a:ext cx="990720" cy="1554120"/>
            </a:xfrm>
            <a:prstGeom prst="rect">
              <a:avLst/>
            </a:prstGeom>
            <a:solidFill>
              <a:srgbClr val="ffebeb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s               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                                      </a:t>
              </a: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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6"/>
            <p:cNvSpPr/>
            <p:nvPr/>
          </p:nvSpPr>
          <p:spPr>
            <a:xfrm flipH="1">
              <a:off x="8000640" y="1177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0" name="Group 17"/>
          <p:cNvGrpSpPr/>
          <p:nvPr/>
        </p:nvGrpSpPr>
        <p:grpSpPr>
          <a:xfrm>
            <a:off x="7772400" y="2382120"/>
            <a:ext cx="914400" cy="1189080"/>
            <a:chOff x="7772400" y="2382120"/>
            <a:chExt cx="914400" cy="1189080"/>
          </a:xfrm>
        </p:grpSpPr>
        <p:sp>
          <p:nvSpPr>
            <p:cNvPr id="461" name="Rectangle 18"/>
            <p:cNvSpPr/>
            <p:nvPr/>
          </p:nvSpPr>
          <p:spPr>
            <a:xfrm>
              <a:off x="7772400" y="2382120"/>
              <a:ext cx="914400" cy="118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</a:t>
              </a: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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=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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8153640" y="2900160"/>
              <a:ext cx="304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3" name="Rectangle 20"/>
          <p:cNvSpPr/>
          <p:nvPr/>
        </p:nvSpPr>
        <p:spPr>
          <a:xfrm>
            <a:off x="3969720" y="3128040"/>
            <a:ext cx="2050560" cy="276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e expresa en rad/s o en rpm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4" name="AutoShape 21"/>
          <p:cNvCxnSpPr>
            <a:stCxn id="448" idx="0"/>
            <a:endCxn id="449" idx="1"/>
          </p:cNvCxnSpPr>
          <p:nvPr/>
        </p:nvCxnSpPr>
        <p:spPr>
          <a:xfrm flipV="1">
            <a:off x="1600200" y="1223640"/>
            <a:ext cx="53424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8" idx="4"/>
            <a:endCxn id="446" idx="1"/>
          </p:cNvCxnSpPr>
          <p:nvPr/>
        </p:nvCxnSpPr>
        <p:spPr>
          <a:xfrm>
            <a:off x="1599840" y="2545920"/>
            <a:ext cx="686520" cy="44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66" name="AutoShape 23"/>
          <p:cNvSpPr/>
          <p:nvPr/>
        </p:nvSpPr>
        <p:spPr>
          <a:xfrm>
            <a:off x="5410080" y="3495600"/>
            <a:ext cx="3353040" cy="448920"/>
          </a:xfrm>
          <a:prstGeom prst="bevel">
            <a:avLst>
              <a:gd name="adj" fmla="val 12500"/>
            </a:avLst>
          </a:prstGeom>
          <a:solidFill>
            <a:srgbClr val="fdadc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r                      v = </a:t>
            </a:r>
            <a:r>
              <a:rPr b="0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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r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228600" y="3562200"/>
            <a:ext cx="5181480" cy="371520"/>
          </a:xfrm>
          <a:custGeom>
            <a:avLst/>
            <a:gdLst>
              <a:gd name="textAreaLeft" fmla="*/ 477720 w 5181480"/>
              <a:gd name="textAreaRight" fmla="*/ 4703760 w 5181480"/>
              <a:gd name="textAreaTop" fmla="*/ 62640 h 371520"/>
              <a:gd name="textAreaBottom" fmla="*/ 308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3654"/>
                </a:moveTo>
                <a:lnTo>
                  <a:pt x="18590" y="3654"/>
                </a:lnTo>
                <a:lnTo>
                  <a:pt x="18590" y="0"/>
                </a:lnTo>
                <a:lnTo>
                  <a:pt x="21600" y="10800"/>
                </a:lnTo>
                <a:lnTo>
                  <a:pt x="18590" y="21600"/>
                </a:lnTo>
                <a:lnTo>
                  <a:pt x="18590" y="17946"/>
                </a:lnTo>
                <a:lnTo>
                  <a:pt x="0" y="17946"/>
                </a:lnTo>
                <a:lnTo>
                  <a:pt x="1992" y="10800"/>
                </a:lnTo>
                <a:lnTo>
                  <a:pt x="0" y="3654"/>
                </a:lnTo>
                <a:close/>
              </a:path>
            </a:pathLst>
          </a:cu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RELACIONES ENTRE MAGNITUDES LINEALES Y ANGULARE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1752480" y="4038480"/>
            <a:ext cx="5715000" cy="272880"/>
          </a:xfrm>
          <a:prstGeom prst="roundRect">
            <a:avLst>
              <a:gd name="adj" fmla="val 16667"/>
            </a:avLst>
          </a:prstGeom>
          <a:solidFill>
            <a:srgbClr val="82e2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OTRAS MAGNITUDES  DEL MOVIMIENTO CIRCULAR UNIFORME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380880" y="4409640"/>
            <a:ext cx="8382240" cy="1858320"/>
          </a:xfrm>
          <a:prstGeom prst="rect">
            <a:avLst/>
          </a:prstGeom>
          <a:solidFill>
            <a:srgbClr val="b6f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ERIODO   (T)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tiempo que tarda el móvil en dar una vuelta completa. Se mide en 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RECUENCIA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s-ES_tradnl" sz="12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número de vueltas que efectúa el móvil en la unidad de tiempo. Se mide en Herzios (s</a:t>
            </a:r>
            <a:r>
              <a:rPr b="1" lang="es-ES_tradnl" sz="12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mbas se relacionan por: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mo una vuelta completa  2</a:t>
            </a:r>
            <a:r>
              <a:rPr b="0" lang="es-ES_tradnl" sz="12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se efectúa en un tiempo t=T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7"/>
          <p:cNvSpPr/>
          <p:nvPr/>
        </p:nvSpPr>
        <p:spPr>
          <a:xfrm>
            <a:off x="5493600" y="4971600"/>
            <a:ext cx="796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T = 1/</a:t>
            </a: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1" name="Group 28"/>
          <p:cNvGrpSpPr/>
          <p:nvPr/>
        </p:nvGrpSpPr>
        <p:grpSpPr>
          <a:xfrm>
            <a:off x="4267080" y="5490720"/>
            <a:ext cx="725400" cy="702360"/>
            <a:chOff x="4267080" y="5490720"/>
            <a:chExt cx="725400" cy="702360"/>
          </a:xfrm>
        </p:grpSpPr>
        <p:sp>
          <p:nvSpPr>
            <p:cNvPr id="472" name="Rectangle 29"/>
            <p:cNvSpPr/>
            <p:nvPr/>
          </p:nvSpPr>
          <p:spPr>
            <a:xfrm>
              <a:off x="4267080" y="5490720"/>
              <a:ext cx="72540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Symbol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s-ES_tradnl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30"/>
            <p:cNvSpPr/>
            <p:nvPr/>
          </p:nvSpPr>
          <p:spPr>
            <a:xfrm>
              <a:off x="4724280" y="57913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4" name="Group 31"/>
          <p:cNvGrpSpPr/>
          <p:nvPr/>
        </p:nvGrpSpPr>
        <p:grpSpPr>
          <a:xfrm>
            <a:off x="5791320" y="5399640"/>
            <a:ext cx="761760" cy="884880"/>
            <a:chOff x="5791320" y="5399640"/>
            <a:chExt cx="761760" cy="884880"/>
          </a:xfrm>
        </p:grpSpPr>
        <p:sp>
          <p:nvSpPr>
            <p:cNvPr id="475" name="Rectangle 32"/>
            <p:cNvSpPr/>
            <p:nvPr/>
          </p:nvSpPr>
          <p:spPr>
            <a:xfrm>
              <a:off x="5791320" y="5399640"/>
              <a:ext cx="761760" cy="88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Times New Roman"/>
                </a:rPr>
                <a:t>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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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 flipH="1">
              <a:off x="6171840" y="58528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Rectangle 34"/>
          <p:cNvSpPr/>
          <p:nvPr/>
        </p:nvSpPr>
        <p:spPr>
          <a:xfrm>
            <a:off x="7067880" y="5643000"/>
            <a:ext cx="956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= 2</a:t>
            </a: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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AutoShape 37"/>
          <p:cNvSpPr/>
          <p:nvPr/>
        </p:nvSpPr>
        <p:spPr>
          <a:xfrm rot="10800000">
            <a:off x="3357360" y="6290640"/>
            <a:ext cx="2971800" cy="3067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2" y="0"/>
                </a:lnTo>
                <a:lnTo>
                  <a:pt x="21600" y="10800"/>
                </a:lnTo>
                <a:lnTo>
                  <a:pt x="195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66"/>
                </a:solidFill>
                <a:latin typeface="Times New Roman"/>
              </a:rPr>
              <a:t>Volver a índice Cinemátic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581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agnitud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80880" y="1996920"/>
            <a:ext cx="8336160" cy="4486680"/>
          </a:xfrm>
          <a:custGeom>
            <a:avLst/>
            <a:gdLst>
              <a:gd name="textAreaLeft" fmla="*/ 172800 w 8336160"/>
              <a:gd name="textAreaRight" fmla="*/ 8163360 w 8336160"/>
              <a:gd name="textAreaTop" fmla="*/ 172800 h 4486680"/>
              <a:gd name="textAreaBottom" fmla="*/ 4313880 h 4486680"/>
            </a:gdLst>
            <a:ahLst/>
            <a:rect l="textAreaLeft" t="textAreaTop" r="textAreaRight" b="textAreaBottom"/>
            <a:pathLst>
              <a:path w="40131" h="21600">
                <a:moveTo>
                  <a:pt x="1178" y="0"/>
                </a:moveTo>
                <a:arcTo wR="1178" hR="1178" stAng="0" swAng="5400000"/>
                <a:lnTo>
                  <a:pt x="0" y="20422"/>
                </a:lnTo>
                <a:arcTo wR="1178" hR="1178" stAng="16200000" swAng="5400000"/>
                <a:lnTo>
                  <a:pt x="38953" y="21600"/>
                </a:lnTo>
                <a:arcTo wR="1178" hR="1178" stAng="10800000" swAng="5400000"/>
                <a:lnTo>
                  <a:pt x="40131" y="1178"/>
                </a:lnTo>
                <a:arcTo wR="1178" hR="1178" stAng="5400000" swAng="5400000"/>
                <a:close/>
              </a:path>
            </a:pathLst>
          </a:custGeom>
          <a:solidFill>
            <a:srgbClr val="a8f6a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VECTORIALES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hay que indicar además su dirección y sentido. Se representan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por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vectores.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j: velocidad,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peso,espacio recorrido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VECTOR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un segmento orientado que consta de los siguientes elementos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438280" y="1143000"/>
            <a:ext cx="4343400" cy="735480"/>
          </a:xfrm>
          <a:prstGeom prst="ellipse">
            <a:avLst/>
          </a:prstGeom>
          <a:solidFill>
            <a:srgbClr val="7bf9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AGNITUDES FÍSICA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Pueden s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57200" y="219600"/>
            <a:ext cx="8271000" cy="719640"/>
          </a:xfrm>
          <a:custGeom>
            <a:avLst/>
            <a:gdLst>
              <a:gd name="textAreaLeft" fmla="*/ 84600 w 8271000"/>
              <a:gd name="textAreaRight" fmla="*/ 8186400 w 8271000"/>
              <a:gd name="textAreaTop" fmla="*/ 84600 h 719640"/>
              <a:gd name="textAreaBottom" fmla="*/ 635040 h 719640"/>
            </a:gdLst>
            <a:ahLst/>
            <a:rect l="textAreaLeft" t="textAreaTop" r="textAreaRight" b="textAreaBottom"/>
            <a:pathLst>
              <a:path w="2481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4541" y="21600"/>
                </a:lnTo>
                <a:arcTo wR="3600" hR="3600" stAng="10800000" swAng="5400000"/>
                <a:lnTo>
                  <a:pt x="248141" y="3600"/>
                </a:lnTo>
                <a:arcTo wR="3600" hR="3600" stAng="5400000" swAng="5400000"/>
                <a:close/>
              </a:path>
            </a:pathLst>
          </a:custGeom>
          <a:solidFill>
            <a:srgbClr val="e7fd9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CALAR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quedan perfectamente definidas por su valor y unidad.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j: masa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volumen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tiempo...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133720" y="3663000"/>
            <a:ext cx="4952880" cy="3070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1.  </a:t>
            </a: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MÓDULO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su longitud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133720" y="3961440"/>
            <a:ext cx="4952880" cy="3070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000"/>
                </a:solidFill>
                <a:latin typeface="Arial"/>
              </a:rPr>
              <a:t>2.  </a:t>
            </a:r>
            <a:r>
              <a:rPr b="1" lang="es-ES" sz="1400" spc="-1" strike="noStrike">
                <a:solidFill>
                  <a:srgbClr val="006000"/>
                </a:solidFill>
                <a:latin typeface="Arial"/>
              </a:rPr>
              <a:t>PUNTO DE APLICACIÓN</a:t>
            </a:r>
            <a:r>
              <a:rPr b="0" lang="es-ES" sz="1400" spc="-1" strike="noStrike">
                <a:solidFill>
                  <a:srgbClr val="006000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el punto del que part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133720" y="4260960"/>
            <a:ext cx="4952880" cy="33732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66ff"/>
                </a:solidFill>
                <a:latin typeface="Arial"/>
              </a:rPr>
              <a:t>3.  </a:t>
            </a: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IRECCIÓN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la de la recta sobre la qu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encuentra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133720" y="4572000"/>
            <a:ext cx="4952880" cy="3682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ff3399"/>
                </a:solidFill>
                <a:latin typeface="Arial"/>
              </a:rPr>
              <a:t>4.  </a:t>
            </a:r>
            <a:r>
              <a:rPr b="1" lang="es-ES" sz="1400" spc="-1" strike="noStrike">
                <a:solidFill>
                  <a:srgbClr val="ff3399"/>
                </a:solidFill>
                <a:latin typeface="Arial"/>
              </a:rPr>
              <a:t>SENTIDO</a:t>
            </a:r>
            <a:r>
              <a:rPr b="0" lang="es-ES" sz="1400" spc="-1" strike="noStrike">
                <a:solidFill>
                  <a:srgbClr val="ff3399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indicado por el extremo del vector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819520" y="5029200"/>
            <a:ext cx="3657600" cy="1295280"/>
          </a:xfrm>
          <a:prstGeom prst="rect">
            <a:avLst/>
          </a:prstGeom>
          <a:solidFill>
            <a:srgbClr val="e9f5a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657600" y="51055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657600" y="61722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3657600" y="5791320"/>
            <a:ext cx="12952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4978440" y="5649840"/>
            <a:ext cx="57636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968640" y="558180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352680" y="597384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6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587920" y="547848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66ff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883040" y="586728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AutoShape 20"/>
          <p:cNvSpPr/>
          <p:nvPr/>
        </p:nvSpPr>
        <p:spPr>
          <a:xfrm rot="4503000">
            <a:off x="4216320" y="5246640"/>
            <a:ext cx="122040" cy="1242720"/>
          </a:xfrm>
          <a:custGeom>
            <a:avLst/>
            <a:gdLst>
              <a:gd name="textAreaLeft" fmla="*/ 78120 w 122040"/>
              <a:gd name="textAreaRight" fmla="*/ 122040 w 122040"/>
              <a:gd name="textAreaTop" fmla="*/ 32400 h 1242720"/>
              <a:gd name="textAreaBottom" fmla="*/ 1210320 h 124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4648320" y="914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Cinemática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5513760" y="2892240"/>
            <a:ext cx="2889720" cy="2180160"/>
            <a:chOff x="5513760" y="2892240"/>
            <a:chExt cx="2889720" cy="2180160"/>
          </a:xfrm>
        </p:grpSpPr>
        <p:sp>
          <p:nvSpPr>
            <p:cNvPr id="119" name="AutoShape 4"/>
            <p:cNvSpPr/>
            <p:nvPr/>
          </p:nvSpPr>
          <p:spPr>
            <a:xfrm>
              <a:off x="5513760" y="2892240"/>
              <a:ext cx="2889720" cy="2180160"/>
            </a:xfrm>
            <a:prstGeom prst="hexagon">
              <a:avLst>
                <a:gd name="adj" fmla="val 33137"/>
                <a:gd name="vf" fmla="val 115470"/>
              </a:avLst>
            </a:prstGeom>
            <a:solidFill>
              <a:srgbClr val="85ff85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CRITERIO DE SIGNOS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6920280" y="3841200"/>
              <a:ext cx="0" cy="472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6138720" y="4056120"/>
              <a:ext cx="15631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7590240" y="3884040"/>
              <a:ext cx="446760" cy="2462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6362280" y="3799080"/>
              <a:ext cx="446040" cy="2462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9"/>
            <p:cNvSpPr/>
            <p:nvPr/>
          </p:nvSpPr>
          <p:spPr>
            <a:xfrm flipH="1">
              <a:off x="6138720" y="4012920"/>
              <a:ext cx="111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7031880" y="4271040"/>
              <a:ext cx="1112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AutoShape 11"/>
          <p:cNvSpPr/>
          <p:nvPr/>
        </p:nvSpPr>
        <p:spPr>
          <a:xfrm>
            <a:off x="304920" y="219600"/>
            <a:ext cx="8619840" cy="719640"/>
          </a:xfrm>
          <a:custGeom>
            <a:avLst/>
            <a:gdLst>
              <a:gd name="textAreaLeft" fmla="*/ 84600 w 8619840"/>
              <a:gd name="textAreaRight" fmla="*/ 8535240 w 8619840"/>
              <a:gd name="textAreaTop" fmla="*/ 84600 h 719640"/>
              <a:gd name="textAreaBottom" fmla="*/ 635040 h 719640"/>
            </a:gdLst>
            <a:ahLst/>
            <a:rect l="textAreaLeft" t="textAreaTop" r="textAreaRight" b="textAreaBottom"/>
            <a:pathLst>
              <a:path w="2586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5006" y="21600"/>
                </a:lnTo>
                <a:arcTo wR="3600" hR="3600" stAng="10800000" swAng="5400000"/>
                <a:lnTo>
                  <a:pt x="258606" y="3600"/>
                </a:lnTo>
                <a:arcTo wR="3600" hR="3600" stAng="5400000" swAng="5400000"/>
                <a:close/>
              </a:path>
            </a:pathLst>
          </a:custGeom>
          <a:solidFill>
            <a:srgbClr val="fbbc7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INEMÁTICA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s la parte de la física que estudia los movimientos sin considerar las causas que los produc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28600" y="1071000"/>
            <a:ext cx="4241880" cy="818640"/>
          </a:xfrm>
          <a:prstGeom prst="parallelogram">
            <a:avLst>
              <a:gd name="adj" fmla="val 33992"/>
            </a:avLst>
          </a:prstGeom>
          <a:solidFill>
            <a:srgbClr val="feeda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MÓVI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uerpo cuyo estado de reposo o movimiento se está estudiand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380880" y="5337720"/>
            <a:ext cx="2514600" cy="1006560"/>
            <a:chOff x="380880" y="5337720"/>
            <a:chExt cx="2514600" cy="1006560"/>
          </a:xfrm>
        </p:grpSpPr>
        <p:sp>
          <p:nvSpPr>
            <p:cNvPr id="129" name="Rectangle 14"/>
            <p:cNvSpPr/>
            <p:nvPr/>
          </p:nvSpPr>
          <p:spPr>
            <a:xfrm>
              <a:off x="380880" y="5337720"/>
              <a:ext cx="2514600" cy="1006560"/>
            </a:xfrm>
            <a:prstGeom prst="rect">
              <a:avLst/>
            </a:prstGeom>
            <a:solidFill>
              <a:srgbClr val="eff5c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990720" y="575784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990720" y="617220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1093680" y="5803920"/>
              <a:ext cx="1230480" cy="266760"/>
            </a:xfrm>
            <a:prstGeom prst="pie">
              <a:avLst/>
            </a:prstGeom>
            <a:solidFill>
              <a:srgbClr val="eff5c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H="1">
              <a:off x="990360" y="5942160"/>
              <a:ext cx="61596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>
              <a:off x="1606680" y="5942160"/>
              <a:ext cx="0" cy="23004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" name="Rectangle 20"/>
          <p:cNvSpPr/>
          <p:nvPr/>
        </p:nvSpPr>
        <p:spPr>
          <a:xfrm>
            <a:off x="711360" y="4254480"/>
            <a:ext cx="1828800" cy="276480"/>
          </a:xfrm>
          <a:prstGeom prst="rect">
            <a:avLst/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RECTILÍNE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149640" y="4254480"/>
            <a:ext cx="1930320" cy="276480"/>
          </a:xfrm>
          <a:prstGeom prst="rect">
            <a:avLst/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URVILÍNE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3733920" y="1218960"/>
            <a:ext cx="4873680" cy="578520"/>
          </a:xfrm>
          <a:prstGeom prst="parallelogram">
            <a:avLst>
              <a:gd name="adj" fmla="val 45632"/>
            </a:avLst>
          </a:prstGeom>
          <a:solidFill>
            <a:srgbClr val="fbfec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MOVIMIENT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ambio de posición con respecto al S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838080" y="1833120"/>
            <a:ext cx="7721640" cy="823680"/>
          </a:xfrm>
          <a:prstGeom prst="parallelogram">
            <a:avLst>
              <a:gd name="adj" fmla="val 67228"/>
            </a:avLst>
          </a:prstGeom>
          <a:solidFill>
            <a:srgbClr val="e8fbc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ONCEPTO RELATIVO DE REPOSO O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reposo o movimiento dependen del sistema de referencia elegid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1143000" y="2478960"/>
            <a:ext cx="7819920" cy="810720"/>
          </a:xfrm>
          <a:prstGeom prst="parallelogram">
            <a:avLst>
              <a:gd name="adj" fmla="val -52935"/>
            </a:avLst>
          </a:prstGeom>
          <a:solidFill>
            <a:srgbClr val="d1f1d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ISTEMA DE REFERENCIA</a:t>
            </a:r>
            <a:r>
              <a:rPr b="0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elemento respecto al cual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e estudia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situación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de un móvi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AutoShape 25"/>
          <p:cNvSpPr/>
          <p:nvPr/>
        </p:nvSpPr>
        <p:spPr>
          <a:xfrm>
            <a:off x="152280" y="3130560"/>
            <a:ext cx="5280120" cy="1044360"/>
          </a:xfrm>
          <a:prstGeom prst="parallelogram">
            <a:avLst>
              <a:gd name="adj" fmla="val 29726"/>
            </a:avLst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la línea definida por las diferentes posiciones que va tomando el móvil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forma de la trayectoria depende del S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523880" y="4172040"/>
            <a:ext cx="0" cy="114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4064040" y="4172040"/>
            <a:ext cx="0" cy="114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03000" y="4622040"/>
            <a:ext cx="7703280" cy="641520"/>
          </a:xfrm>
          <a:prstGeom prst="rect">
            <a:avLst/>
          </a:prstGeom>
          <a:solidFill>
            <a:srgbClr val="8ff9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SI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lugar que ocupa el móvil en un instante con respecto al sistema de referenci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e puede expresar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998280" y="5337720"/>
            <a:ext cx="132948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r coordenada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5" name="Group 30"/>
          <p:cNvGrpSpPr/>
          <p:nvPr/>
        </p:nvGrpSpPr>
        <p:grpSpPr>
          <a:xfrm>
            <a:off x="3276720" y="5337720"/>
            <a:ext cx="2514600" cy="1006560"/>
            <a:chOff x="3276720" y="5337720"/>
            <a:chExt cx="2514600" cy="1006560"/>
          </a:xfrm>
        </p:grpSpPr>
        <p:sp>
          <p:nvSpPr>
            <p:cNvPr id="146" name="Rectangle 31"/>
            <p:cNvSpPr/>
            <p:nvPr/>
          </p:nvSpPr>
          <p:spPr>
            <a:xfrm>
              <a:off x="3276720" y="5337720"/>
              <a:ext cx="2514600" cy="1006560"/>
            </a:xfrm>
            <a:prstGeom prst="rect">
              <a:avLst/>
            </a:prstGeom>
            <a:solidFill>
              <a:srgbClr val="c4fad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4038480" y="5791320"/>
              <a:ext cx="1592280" cy="126720"/>
            </a:xfrm>
            <a:prstGeom prst="pie">
              <a:avLst/>
            </a:prstGeom>
            <a:solidFill>
              <a:srgbClr val="c4fad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3"/>
            <p:cNvSpPr/>
            <p:nvPr/>
          </p:nvSpPr>
          <p:spPr>
            <a:xfrm>
              <a:off x="3597120" y="5843520"/>
              <a:ext cx="552600" cy="246240"/>
            </a:xfrm>
            <a:prstGeom prst="rect">
              <a:avLst/>
            </a:prstGeom>
            <a:solidFill>
              <a:srgbClr val="c4f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3747240" y="5337720"/>
            <a:ext cx="153540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obre la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095880" y="5337720"/>
            <a:ext cx="2514600" cy="1006560"/>
            <a:chOff x="6095880" y="5337720"/>
            <a:chExt cx="2514600" cy="1006560"/>
          </a:xfrm>
        </p:grpSpPr>
        <p:sp>
          <p:nvSpPr>
            <p:cNvPr id="151" name="Rectangle 36"/>
            <p:cNvSpPr/>
            <p:nvPr/>
          </p:nvSpPr>
          <p:spPr>
            <a:xfrm>
              <a:off x="6095880" y="5337720"/>
              <a:ext cx="2514600" cy="100656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2" name="Group 37"/>
            <p:cNvGrpSpPr/>
            <p:nvPr/>
          </p:nvGrpSpPr>
          <p:grpSpPr>
            <a:xfrm>
              <a:off x="6400800" y="5715000"/>
              <a:ext cx="1981080" cy="533520"/>
              <a:chOff x="6400800" y="5715000"/>
              <a:chExt cx="1981080" cy="533520"/>
            </a:xfrm>
          </p:grpSpPr>
          <p:sp>
            <p:nvSpPr>
              <p:cNvPr id="153" name="Freeform 38"/>
              <p:cNvSpPr/>
              <p:nvPr/>
            </p:nvSpPr>
            <p:spPr>
              <a:xfrm>
                <a:off x="6735600" y="5749920"/>
                <a:ext cx="1453680" cy="279360"/>
              </a:xfrm>
              <a:prstGeom prst="pie">
                <a:avLst/>
              </a:prstGeom>
              <a:solidFill>
                <a:srgbClr val="e4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Line 39"/>
              <p:cNvSpPr/>
              <p:nvPr/>
            </p:nvSpPr>
            <p:spPr>
              <a:xfrm>
                <a:off x="6400800" y="5715000"/>
                <a:ext cx="0" cy="53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Line 40"/>
              <p:cNvSpPr/>
              <p:nvPr/>
            </p:nvSpPr>
            <p:spPr>
              <a:xfrm flipV="1">
                <a:off x="6400800" y="5861160"/>
                <a:ext cx="111744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Line 41"/>
              <p:cNvSpPr/>
              <p:nvPr/>
            </p:nvSpPr>
            <p:spPr>
              <a:xfrm>
                <a:off x="6400800" y="6242040"/>
                <a:ext cx="1981080" cy="6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Rectangle 42"/>
          <p:cNvSpPr/>
          <p:nvPr/>
        </p:nvSpPr>
        <p:spPr>
          <a:xfrm>
            <a:off x="6486840" y="5337720"/>
            <a:ext cx="182304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r el vector de posición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Desplazamiento, espacio recorrid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380880"/>
            <a:ext cx="8305920" cy="2438640"/>
          </a:xfrm>
          <a:prstGeom prst="rect">
            <a:avLst/>
          </a:prstGeom>
          <a:solidFill>
            <a:srgbClr val="fbe4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DESPLAZAMIENTO</a:t>
            </a:r>
            <a:r>
              <a:rPr b="0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segmento orientado que une la posición inicial con la final. Es un vector que tiene su origen en la posición inicial y su extremo en la posición final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1320840" y="1771200"/>
            <a:ext cx="609480" cy="77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1219320" y="1771560"/>
            <a:ext cx="4093920" cy="57168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320840" y="2228400"/>
            <a:ext cx="264168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930320" y="1771560"/>
            <a:ext cx="1998720" cy="453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015920" y="25401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80880" y="2895480"/>
            <a:ext cx="8331480" cy="1905120"/>
          </a:xfrm>
          <a:prstGeom prst="rect">
            <a:avLst/>
          </a:prstGeom>
          <a:solidFill>
            <a:srgbClr val="dbf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ESPACIO RECORRID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la longitud recorrida por el móvil sobre la trayectoria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Freeform 10"/>
          <p:cNvSpPr/>
          <p:nvPr/>
        </p:nvSpPr>
        <p:spPr>
          <a:xfrm>
            <a:off x="1727280" y="3772080"/>
            <a:ext cx="4165560" cy="493560"/>
          </a:xfrm>
          <a:prstGeom prst="pie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892840" y="3828600"/>
            <a:ext cx="7110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11360" y="425124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807240" y="3824640"/>
            <a:ext cx="1422360" cy="578520"/>
          </a:xfrm>
          <a:prstGeom prst="rect">
            <a:avLst/>
          </a:prstGeom>
          <a:solidFill>
            <a:srgbClr val="eec6a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 = 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 – 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5943600" y="1841400"/>
            <a:ext cx="1991880" cy="761040"/>
            <a:chOff x="5943600" y="1841400"/>
            <a:chExt cx="1991880" cy="761040"/>
          </a:xfrm>
        </p:grpSpPr>
        <p:sp>
          <p:nvSpPr>
            <p:cNvPr id="171" name="Rectangle 15"/>
            <p:cNvSpPr/>
            <p:nvPr/>
          </p:nvSpPr>
          <p:spPr>
            <a:xfrm>
              <a:off x="5943600" y="1841400"/>
              <a:ext cx="1991880" cy="761040"/>
            </a:xfrm>
            <a:prstGeom prst="rect">
              <a:avLst/>
            </a:prstGeom>
            <a:solidFill>
              <a:srgbClr val="c3fbe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 = r</a:t>
              </a:r>
              <a:r>
                <a:rPr b="1" lang="es-ES" sz="14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 – r</a:t>
              </a:r>
              <a:r>
                <a:rPr b="1" lang="es-ES" sz="1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6559200" y="220068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>
              <a:off x="6902640" y="2200680"/>
              <a:ext cx="1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>
              <a:off x="7264440" y="2201760"/>
              <a:ext cx="1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1727280" y="2064960"/>
            <a:ext cx="507600" cy="336240"/>
            <a:chOff x="1727280" y="2064960"/>
            <a:chExt cx="507600" cy="336240"/>
          </a:xfrm>
        </p:grpSpPr>
        <p:sp>
          <p:nvSpPr>
            <p:cNvPr id="176" name="Rectangle 20"/>
            <p:cNvSpPr/>
            <p:nvPr/>
          </p:nvSpPr>
          <p:spPr>
            <a:xfrm>
              <a:off x="1727280" y="2064960"/>
              <a:ext cx="507600" cy="336240"/>
            </a:xfrm>
            <a:prstGeom prst="rect">
              <a:avLst/>
            </a:prstGeom>
            <a:solidFill>
              <a:srgbClr val="f0c9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1828800" y="2171520"/>
              <a:ext cx="177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2540160" y="2407680"/>
            <a:ext cx="507600" cy="336240"/>
            <a:chOff x="2540160" y="2407680"/>
            <a:chExt cx="507600" cy="336240"/>
          </a:xfrm>
        </p:grpSpPr>
        <p:sp>
          <p:nvSpPr>
            <p:cNvPr id="179" name="Rectangle 23"/>
            <p:cNvSpPr/>
            <p:nvPr/>
          </p:nvSpPr>
          <p:spPr>
            <a:xfrm>
              <a:off x="2540160" y="2407680"/>
              <a:ext cx="507600" cy="336240"/>
            </a:xfrm>
            <a:prstGeom prst="rect">
              <a:avLst/>
            </a:prstGeom>
            <a:solidFill>
              <a:srgbClr val="cda7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2641320" y="25023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2922480" y="1736280"/>
            <a:ext cx="414000" cy="307080"/>
            <a:chOff x="2922480" y="1736280"/>
            <a:chExt cx="414000" cy="307080"/>
          </a:xfrm>
        </p:grpSpPr>
        <p:sp>
          <p:nvSpPr>
            <p:cNvPr id="182" name="Rectangle 26"/>
            <p:cNvSpPr/>
            <p:nvPr/>
          </p:nvSpPr>
          <p:spPr>
            <a:xfrm>
              <a:off x="2922480" y="1736280"/>
              <a:ext cx="414000" cy="307080"/>
            </a:xfrm>
            <a:prstGeom prst="rect">
              <a:avLst/>
            </a:prstGeom>
            <a:solidFill>
              <a:srgbClr val="9e9ef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 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3047760" y="1828440"/>
              <a:ext cx="17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Rectangle 28"/>
          <p:cNvSpPr/>
          <p:nvPr/>
        </p:nvSpPr>
        <p:spPr>
          <a:xfrm>
            <a:off x="1877760" y="157248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4011480" y="220104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1471320" y="385848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840280" y="414432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32"/>
          <p:cNvSpPr/>
          <p:nvPr/>
        </p:nvSpPr>
        <p:spPr>
          <a:xfrm flipH="1">
            <a:off x="1320480" y="4114800"/>
            <a:ext cx="406440" cy="1713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2057400" y="5854320"/>
            <a:ext cx="5583240" cy="474120"/>
          </a:xfrm>
          <a:prstGeom prst="bevel">
            <a:avLst>
              <a:gd name="adj" fmla="val 14449"/>
            </a:avLst>
          </a:prstGeom>
          <a:solidFill>
            <a:srgbClr val="b7dd8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Su unidad en el S.I es el m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tro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34"/>
          <p:cNvSpPr/>
          <p:nvPr/>
        </p:nvSpPr>
        <p:spPr>
          <a:xfrm>
            <a:off x="457200" y="4873680"/>
            <a:ext cx="8302680" cy="857160"/>
          </a:xfrm>
          <a:prstGeom prst="bevel">
            <a:avLst>
              <a:gd name="adj" fmla="val 7236"/>
            </a:avLst>
          </a:prstGeom>
          <a:solidFill>
            <a:srgbClr val="85e1b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PACIO RECORRIDO Y DESPLAZAMIENTO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SÓLO COINCIDEN SI LA TRAYECTORIA ES RECTILÍNEA 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Y NO CAMBIA EL SENTIDO DEL MOVIMIENT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35"/>
          <p:cNvSpPr/>
          <p:nvPr/>
        </p:nvSpPr>
        <p:spPr>
          <a:xfrm flipV="1">
            <a:off x="1313280" y="4134600"/>
            <a:ext cx="421560" cy="123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Freeform 36"/>
          <p:cNvSpPr/>
          <p:nvPr/>
        </p:nvSpPr>
        <p:spPr>
          <a:xfrm rot="21506400">
            <a:off x="1422360" y="3828600"/>
            <a:ext cx="4572000" cy="514440"/>
          </a:xfrm>
          <a:prstGeom prst="pie">
            <a:avLst/>
          </a:pr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962520" y="4179600"/>
            <a:ext cx="507960" cy="336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38"/>
          <p:cNvSpPr/>
          <p:nvPr/>
        </p:nvSpPr>
        <p:spPr>
          <a:xfrm>
            <a:off x="4437000" y="3736800"/>
            <a:ext cx="36072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976320" y="3951000"/>
            <a:ext cx="302760" cy="3362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Freeform 40"/>
          <p:cNvSpPr/>
          <p:nvPr/>
        </p:nvSpPr>
        <p:spPr>
          <a:xfrm>
            <a:off x="1727280" y="3772080"/>
            <a:ext cx="4165560" cy="493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Velocida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06440" y="465840"/>
            <a:ext cx="8496360" cy="2284560"/>
          </a:xfrm>
          <a:prstGeom prst="octagon">
            <a:avLst>
              <a:gd name="adj" fmla="val 5324"/>
            </a:avLst>
          </a:prstGeom>
          <a:solidFill>
            <a:srgbClr val="f6d4a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VELOCIDAD MEDIA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cociente entre el desplazamiento  y el tiempo invertido en realizarl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09480" y="1527480"/>
            <a:ext cx="5943600" cy="45936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8" y="0"/>
                </a:lnTo>
                <a:lnTo>
                  <a:pt x="21600" y="10800"/>
                </a:lnTo>
                <a:lnTo>
                  <a:pt x="190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e9d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a magnitud vectorial cuya dirección y sentido coincide con las del desplaza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523880" y="2137320"/>
            <a:ext cx="4775400" cy="276480"/>
          </a:xfrm>
          <a:custGeom>
            <a:avLst/>
            <a:gdLst>
              <a:gd name="textAreaLeft" fmla="*/ 0 w 4775400"/>
              <a:gd name="textAreaRight" fmla="*/ 4775760 w 47754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3" y="0"/>
                </a:lnTo>
                <a:lnTo>
                  <a:pt x="21600" y="10800"/>
                </a:lnTo>
                <a:lnTo>
                  <a:pt x="19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7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uede ser + o -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380880" y="2771640"/>
            <a:ext cx="8488440" cy="1924560"/>
          </a:xfrm>
          <a:prstGeom prst="octagon">
            <a:avLst>
              <a:gd name="adj" fmla="val 6556"/>
            </a:avLst>
          </a:prstGeom>
          <a:solidFill>
            <a:srgbClr val="e9f5a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RAPIDEZ MEDIA O CELERIDAD MEDIA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cociente entre el espacio recorrido y el tiempo invertido en recorrerlo. También se llama velocidad media respecto a la trayectori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6400800" y="3543480"/>
            <a:ext cx="2133360" cy="1312200"/>
            <a:chOff x="6400800" y="3543480"/>
            <a:chExt cx="2133360" cy="1312200"/>
          </a:xfrm>
        </p:grpSpPr>
        <p:sp>
          <p:nvSpPr>
            <p:cNvPr id="203" name="Text Box 8"/>
            <p:cNvSpPr/>
            <p:nvPr/>
          </p:nvSpPr>
          <p:spPr>
            <a:xfrm>
              <a:off x="6400800" y="3543480"/>
              <a:ext cx="2133360" cy="1312200"/>
            </a:xfrm>
            <a:prstGeom prst="rect">
              <a:avLst/>
            </a:prstGeom>
            <a:solidFill>
              <a:srgbClr val="fad3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s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s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m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= 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=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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7010280" y="3924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7772400" y="3924360"/>
              <a:ext cx="3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AutoShape 11"/>
          <p:cNvSpPr/>
          <p:nvPr/>
        </p:nvSpPr>
        <p:spPr>
          <a:xfrm>
            <a:off x="609480" y="3851640"/>
            <a:ext cx="5715000" cy="2768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1" y="0"/>
                </a:lnTo>
                <a:lnTo>
                  <a:pt x="21600" y="10800"/>
                </a:lnTo>
                <a:lnTo>
                  <a:pt x="19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2d7d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a magnitud escalar por eso es siempre positiv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295280" y="5780880"/>
            <a:ext cx="6755040" cy="408600"/>
          </a:xfrm>
          <a:prstGeom prst="bevel">
            <a:avLst>
              <a:gd name="adj" fmla="val 12500"/>
            </a:avLst>
          </a:prstGeom>
          <a:solidFill>
            <a:srgbClr val="9db8e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La unidad de velocidad en el S.I. es el 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m/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380880" y="4798080"/>
            <a:ext cx="8534520" cy="830520"/>
          </a:xfrm>
          <a:prstGeom prst="octagon">
            <a:avLst>
              <a:gd name="adj" fmla="val 15458"/>
            </a:avLst>
          </a:prstGeom>
          <a:solidFill>
            <a:srgbClr val="b0eda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VELOCIDAD INSTANTÁNEA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la velocidad que lleva el móvil en cada instante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 vector tangente a la trayectoria cuyo módulo es la rapidez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6705720" y="1155240"/>
            <a:ext cx="1981080" cy="1507320"/>
            <a:chOff x="6705720" y="1155240"/>
            <a:chExt cx="1981080" cy="1507320"/>
          </a:xfrm>
        </p:grpSpPr>
        <p:sp>
          <p:nvSpPr>
            <p:cNvPr id="210" name="Text Box 15"/>
            <p:cNvSpPr/>
            <p:nvPr/>
          </p:nvSpPr>
          <p:spPr>
            <a:xfrm>
              <a:off x="6705720" y="1155240"/>
              <a:ext cx="1981080" cy="1507320"/>
            </a:xfrm>
            <a:prstGeom prst="rect">
              <a:avLst/>
            </a:prstGeom>
            <a:solidFill>
              <a:srgbClr val="ffff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"/>
                </a:rPr>
                <a:t> 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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=          =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–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6857640" y="18284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7391160" y="159984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H="1">
              <a:off x="7314840" y="1904760"/>
              <a:ext cx="304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 flipH="1">
              <a:off x="7391160" y="205704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H="1">
              <a:off x="8000640" y="15998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 flipH="1">
              <a:off x="8305560" y="15998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 flipH="1">
              <a:off x="8001000" y="1904760"/>
              <a:ext cx="4572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 espacio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600200" y="1295280"/>
            <a:ext cx="6197760" cy="1428840"/>
          </a:xfrm>
          <a:prstGeom prst="rect">
            <a:avLst/>
          </a:prstGeom>
          <a:solidFill>
            <a:srgbClr val="ea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3200" y="1600200"/>
            <a:ext cx="0" cy="7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3200" y="24004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2743200" y="2054160"/>
            <a:ext cx="1301760" cy="34632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4044960" y="1486080"/>
            <a:ext cx="2254320" cy="568080"/>
          </a:xfrm>
          <a:prstGeom prst="pie">
            <a:avLst/>
          </a:prstGeom>
          <a:noFill/>
          <a:ln w="381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930320" y="1428120"/>
            <a:ext cx="609840" cy="459000"/>
          </a:xfrm>
          <a:prstGeom prst="rect">
            <a:avLst/>
          </a:prstGeom>
          <a:solidFill>
            <a:srgbClr val="eee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775200" y="2422440"/>
            <a:ext cx="429120" cy="276480"/>
          </a:xfrm>
          <a:prstGeom prst="rect">
            <a:avLst/>
          </a:prstGeom>
          <a:solidFill>
            <a:srgbClr val="eee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048120" y="2761920"/>
            <a:ext cx="3149640" cy="520200"/>
          </a:xfrm>
          <a:prstGeom prst="rect">
            <a:avLst/>
          </a:prstGeom>
          <a:solidFill>
            <a:srgbClr val="92e6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us características son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507960" y="3327840"/>
            <a:ext cx="8128080" cy="459360"/>
          </a:xfrm>
          <a:custGeom>
            <a:avLst/>
            <a:gdLst>
              <a:gd name="textAreaLeft" fmla="*/ 0 w 8128080"/>
              <a:gd name="textAreaRight" fmla="*/ 8128440 w 812808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9fb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uesto que el espacio recorrido es siempre positivo la gráfica espacio-tiempo siempre sale en el primer cuadrante y siempre es ascende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07960" y="3923280"/>
            <a:ext cx="8026560" cy="276480"/>
          </a:xfrm>
          <a:custGeom>
            <a:avLst/>
            <a:gdLst>
              <a:gd name="textAreaLeft" fmla="*/ 0 w 8026560"/>
              <a:gd name="textAreaRight" fmla="*/ 8026920 w 80265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5" y="0"/>
                </a:lnTo>
                <a:lnTo>
                  <a:pt x="21600" y="10800"/>
                </a:lnTo>
                <a:lnTo>
                  <a:pt x="20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fe3f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 espacios recorridos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507960" y="4323240"/>
            <a:ext cx="8026560" cy="276480"/>
          </a:xfrm>
          <a:custGeom>
            <a:avLst/>
            <a:gdLst>
              <a:gd name="textAreaLeft" fmla="*/ 0 w 8026560"/>
              <a:gd name="textAreaRight" fmla="*/ 8026920 w 80265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5" y="0"/>
                </a:lnTo>
                <a:lnTo>
                  <a:pt x="21600" y="10800"/>
                </a:lnTo>
                <a:lnTo>
                  <a:pt x="20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dce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espacios no medidos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2923920" y="4723200"/>
            <a:ext cx="3146760" cy="27648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3" y="0"/>
                </a:lnTo>
                <a:lnTo>
                  <a:pt x="21600" y="10800"/>
                </a:lnTo>
                <a:lnTo>
                  <a:pt x="185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b9f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etectar cambios de  velocidad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2464200" y="5085360"/>
            <a:ext cx="4085280" cy="276480"/>
          </a:xfrm>
          <a:custGeom>
            <a:avLst/>
            <a:gdLst>
              <a:gd name="textAreaLeft" fmla="*/ 0 w 4085280"/>
              <a:gd name="textAreaRight" fmla="*/ 4085640 w 40852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8" y="0"/>
                </a:lnTo>
                <a:lnTo>
                  <a:pt x="21600" y="10800"/>
                </a:lnTo>
                <a:lnTo>
                  <a:pt x="186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1b4f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o permiten obtener información sobre la trayectori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928160" y="5421240"/>
            <a:ext cx="5230080" cy="457920"/>
          </a:xfrm>
          <a:custGeom>
            <a:avLst/>
            <a:gdLst>
              <a:gd name="textAreaLeft" fmla="*/ 0 w 5230080"/>
              <a:gd name="textAreaRight" fmla="*/ 5230440 w 5230080"/>
              <a:gd name="textAreaTop" fmla="*/ 0 h 457920"/>
              <a:gd name="textAreaBottom" fmla="*/ 458280 h 45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2" y="0"/>
                </a:lnTo>
                <a:lnTo>
                  <a:pt x="21600" y="10800"/>
                </a:lnTo>
                <a:lnTo>
                  <a:pt x="19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c2f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ovimiento es uniforme la gráfica es una línea recta ascende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421360" y="5878440"/>
            <a:ext cx="4243680" cy="457920"/>
          </a:xfrm>
          <a:custGeom>
            <a:avLst/>
            <a:gdLst>
              <a:gd name="textAreaLeft" fmla="*/ 0 w 4243680"/>
              <a:gd name="textAreaRight" fmla="*/ 4244040 w 4243680"/>
              <a:gd name="textAreaTop" fmla="*/ 0 h 457920"/>
              <a:gd name="textAreaBottom" fmla="*/ 458280 h 45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9" y="0"/>
                </a:lnTo>
                <a:lnTo>
                  <a:pt x="21600" y="10800"/>
                </a:lnTo>
                <a:lnTo>
                  <a:pt x="19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c5f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óvil está parado la gráfica es una línea horizonta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30120" y="273960"/>
            <a:ext cx="8585280" cy="997920"/>
          </a:xfrm>
          <a:custGeom>
            <a:avLst/>
            <a:gdLst>
              <a:gd name="textAreaLeft" fmla="*/ 117360 w 8585280"/>
              <a:gd name="textAreaRight" fmla="*/ 8467920 w 8585280"/>
              <a:gd name="textAreaTop" fmla="*/ 117360 h 997920"/>
              <a:gd name="textAreaBottom" fmla="*/ 880560 h 997920"/>
            </a:gdLst>
            <a:ahLst/>
            <a:rect l="textAreaLeft" t="textAreaTop" r="textAreaRight" b="textAreaBottom"/>
            <a:pathLst>
              <a:path w="1857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2169" y="21600"/>
                </a:lnTo>
                <a:arcTo wR="3600" hR="3600" stAng="10800000" swAng="5400000"/>
                <a:lnTo>
                  <a:pt x="185769" y="3600"/>
                </a:lnTo>
                <a:arcTo wR="3600" hR="3600" stAng="5400000" swAng="5400000"/>
                <a:close/>
              </a:path>
            </a:pathLst>
          </a:custGeom>
          <a:solidFill>
            <a:srgbClr val="d2f4a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ESPACIO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el espacio recorrido (Eje Y) en función de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 posición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523880" y="1371600"/>
            <a:ext cx="6197760" cy="1428840"/>
          </a:xfrm>
          <a:prstGeom prst="rect">
            <a:avLst/>
          </a:prstGeom>
          <a:solidFill>
            <a:srgbClr val="fff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46240" y="1542960"/>
            <a:ext cx="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235240" y="23432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2946240" y="2171880"/>
            <a:ext cx="1016280" cy="34272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286000" y="1447200"/>
            <a:ext cx="60948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705720" y="2320200"/>
            <a:ext cx="81252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429000" y="2899080"/>
            <a:ext cx="2514600" cy="307080"/>
          </a:xfrm>
          <a:prstGeom prst="rect">
            <a:avLst/>
          </a:prstGeom>
          <a:solidFill>
            <a:srgbClr val="54dc85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us características son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533520" y="3370680"/>
            <a:ext cx="8127720" cy="276480"/>
          </a:xfrm>
          <a:custGeom>
            <a:avLst/>
            <a:gdLst>
              <a:gd name="textAreaLeft" fmla="*/ 0 w 8127720"/>
              <a:gd name="textAreaRight" fmla="*/ 8128080 w 81277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fcb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mo la posición puede ser + o -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gráfica puede estar por encima o por debajo del eje X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85800" y="3737160"/>
            <a:ext cx="7518240" cy="307440"/>
          </a:xfrm>
          <a:custGeom>
            <a:avLst/>
            <a:gdLst>
              <a:gd name="textAreaLeft" fmla="*/ 0 w 7518240"/>
              <a:gd name="textAreaRight" fmla="*/ 7518600 w 751824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5" y="0"/>
                </a:lnTo>
                <a:lnTo>
                  <a:pt x="21600" y="10800"/>
                </a:lnTo>
                <a:lnTo>
                  <a:pt x="20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fbd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posiciones a tiempo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no medido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533520" y="4118400"/>
            <a:ext cx="8024760" cy="276480"/>
          </a:xfrm>
          <a:custGeom>
            <a:avLst/>
            <a:gdLst>
              <a:gd name="textAreaLeft" fmla="*/ 0 w 8024760"/>
              <a:gd name="textAreaRight" fmla="*/ 8025120 w 80247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5" y="0"/>
                </a:lnTo>
                <a:lnTo>
                  <a:pt x="21600" y="10800"/>
                </a:lnTo>
                <a:lnTo>
                  <a:pt x="20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9f99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posiciones no medidas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2933640" y="4499280"/>
            <a:ext cx="3146760" cy="27684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3" y="0"/>
                </a:lnTo>
                <a:lnTo>
                  <a:pt x="21600" y="10800"/>
                </a:lnTo>
                <a:lnTo>
                  <a:pt x="185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f5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etectar cambios de  velocidad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1752480" y="5261400"/>
            <a:ext cx="5181840" cy="276480"/>
          </a:xfrm>
          <a:custGeom>
            <a:avLst/>
            <a:gdLst>
              <a:gd name="textAreaLeft" fmla="*/ 0 w 5181840"/>
              <a:gd name="textAreaRight" fmla="*/ 5182200 w 51818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8" y="0"/>
                </a:lnTo>
                <a:lnTo>
                  <a:pt x="21600" y="10800"/>
                </a:lnTo>
                <a:lnTo>
                  <a:pt x="186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e57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ibujar la 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990720" y="5642280"/>
            <a:ext cx="7518240" cy="276840"/>
          </a:xfrm>
          <a:custGeom>
            <a:avLst/>
            <a:gdLst>
              <a:gd name="textAreaLeft" fmla="*/ 0 w 7518240"/>
              <a:gd name="textAreaRight" fmla="*/ 7518600 w 751824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2" y="0"/>
                </a:lnTo>
                <a:lnTo>
                  <a:pt x="21600" y="10800"/>
                </a:lnTo>
                <a:lnTo>
                  <a:pt x="19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1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ovimiento es uniforme la gráfica es una línea recta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2414880" y="6023520"/>
            <a:ext cx="4243680" cy="276480"/>
          </a:xfrm>
          <a:custGeom>
            <a:avLst/>
            <a:gdLst>
              <a:gd name="textAreaLeft" fmla="*/ 0 w 4243680"/>
              <a:gd name="textAreaRight" fmla="*/ 4244040 w 4243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9" y="0"/>
                </a:lnTo>
                <a:lnTo>
                  <a:pt x="21600" y="10800"/>
                </a:lnTo>
                <a:lnTo>
                  <a:pt x="19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ac7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óvil está parado la gráfica es una línea horizonta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331920" y="271800"/>
            <a:ext cx="8582040" cy="997920"/>
          </a:xfrm>
          <a:custGeom>
            <a:avLst/>
            <a:gdLst>
              <a:gd name="textAreaLeft" fmla="*/ 117360 w 8582040"/>
              <a:gd name="textAreaRight" fmla="*/ 8464680 w 8582040"/>
              <a:gd name="textAreaTop" fmla="*/ 117360 h 997920"/>
              <a:gd name="textAreaBottom" fmla="*/ 880560 h 997920"/>
            </a:gdLst>
            <a:ahLst/>
            <a:rect l="textAreaLeft" t="textAreaTop" r="textAreaRight" b="textAreaBottom"/>
            <a:pathLst>
              <a:path w="1856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2099" y="21600"/>
                </a:lnTo>
                <a:arcTo wR="3600" hR="3600" stAng="10800000" swAng="5400000"/>
                <a:lnTo>
                  <a:pt x="185699" y="3600"/>
                </a:lnTo>
                <a:arcTo wR="3600" hR="3600" stAng="5400000" swAng="5400000"/>
                <a:close/>
              </a:path>
            </a:pathLst>
          </a:custGeom>
          <a:solidFill>
            <a:srgbClr val="fda0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POSICIÓN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posición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(Eje Y) en función de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1143000" y="4880520"/>
            <a:ext cx="6603840" cy="276480"/>
          </a:xfrm>
          <a:custGeom>
            <a:avLst/>
            <a:gdLst>
              <a:gd name="textAreaLeft" fmla="*/ 0 w 6603840"/>
              <a:gd name="textAreaRight" fmla="*/ 6604200 w 66038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2" y="0"/>
                </a:lnTo>
                <a:lnTo>
                  <a:pt x="21600" y="10800"/>
                </a:lnTo>
                <a:lnTo>
                  <a:pt x="20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6ecc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os da información sobre el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V="1">
            <a:off x="3962520" y="1771560"/>
            <a:ext cx="406440" cy="40032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4368960" y="1771560"/>
            <a:ext cx="1726920" cy="51444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s velocidad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-233280" y="34817040"/>
            <a:ext cx="4145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GRÁFICA  RAPIDEZ MEDIA  - TIEMP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Consiste en representar la rapidez media ( Eje Y) frente al tiempo (Eje X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m/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0                                        t (s)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s características son: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ermiten conocer rapideces a tiempos no medido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s-ES_tradnl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ermiten conocer tiempos a rapideces  no medidas.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El área encerrada por la gráfica y el eje de abcisas es el espacio recorrido por el móvil en ese tiempo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376200" y="3535848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376200" y="35828280"/>
            <a:ext cx="19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157640" y="34817040"/>
            <a:ext cx="42670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GRÁFICA  VELOCIDAD  MEDIA  - TIEMP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Consiste en representar la velocidad media ( Eje Y) frente al tiempo (Eje X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m/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 (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s características son: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ermiten conocer velocidades a tiempos no medido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s-ES_tradnl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ermiten conocer tiempos a velocidades  no medidas.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El área encerrada por la gráfica y el eje de abcisas es el espacio recorrido por el móvil en ese tiempo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uesto que el desplazamiento puede ser + o – la gráfica puede aparecer por encima o por debajo del eje X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76200" y="35628120"/>
            <a:ext cx="733320" cy="20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5132520" y="3522348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132520" y="35693280"/>
            <a:ext cx="25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5742000" y="35493480"/>
            <a:ext cx="85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6595920" y="356932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32520" y="35693280"/>
            <a:ext cx="609480" cy="206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5132520" y="35894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109520" y="35426520"/>
            <a:ext cx="609840" cy="41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376200" y="35628120"/>
            <a:ext cx="73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09520" y="3542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5742000" y="35493480"/>
            <a:ext cx="853920" cy="20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233280" y="-30700800"/>
            <a:ext cx="91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233280" y="34828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AutoShape 20"/>
          <p:cNvSpPr/>
          <p:nvPr/>
        </p:nvSpPr>
        <p:spPr>
          <a:xfrm>
            <a:off x="1523880" y="145080"/>
            <a:ext cx="6400800" cy="441000"/>
          </a:xfrm>
          <a:custGeom>
            <a:avLst/>
            <a:gdLst>
              <a:gd name="textAreaLeft" fmla="*/ 51840 w 6400800"/>
              <a:gd name="textAreaRight" fmla="*/ 6348960 w 6400800"/>
              <a:gd name="textAreaTop" fmla="*/ 51840 h 441000"/>
              <a:gd name="textAreaBottom" fmla="*/ 389160 h 441000"/>
            </a:gdLst>
            <a:ahLst/>
            <a:rect l="textAreaLeft" t="textAreaTop" r="textAreaRight" b="textAreaBottom"/>
            <a:pathLst>
              <a:path w="3132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9670" y="21600"/>
                </a:lnTo>
                <a:arcTo wR="3600" hR="3600" stAng="10800000" swAng="5400000"/>
                <a:lnTo>
                  <a:pt x="313270" y="3600"/>
                </a:lnTo>
                <a:arcTo wR="3600" hR="3600" stAng="5400000" swAng="5400000"/>
                <a:close/>
              </a:path>
            </a:pathLst>
          </a:custGeom>
          <a:solidFill>
            <a:srgbClr val="a2fa9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GRÁFICA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S  VELOCIDAD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5486400" y="1371600"/>
            <a:ext cx="3352680" cy="1752480"/>
          </a:xfrm>
          <a:prstGeom prst="rect">
            <a:avLst/>
          </a:prstGeom>
          <a:solidFill>
            <a:srgbClr val="dcfc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6451560" y="1542960"/>
            <a:ext cx="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6451560" y="2629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6451560" y="2343240"/>
            <a:ext cx="731880" cy="271440"/>
          </a:xfrm>
          <a:prstGeom prst="rect">
            <a:avLst/>
          </a:prstGeom>
          <a:gradFill rotWithShape="0">
            <a:gsLst>
              <a:gs pos="0">
                <a:srgbClr val="85ffff"/>
              </a:gs>
              <a:gs pos="50000">
                <a:srgbClr val="3e7676"/>
              </a:gs>
              <a:gs pos="100000">
                <a:srgbClr val="85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7162920" y="2057400"/>
            <a:ext cx="608040" cy="571680"/>
          </a:xfrm>
          <a:prstGeom prst="rect">
            <a:avLst/>
          </a:prstGeom>
          <a:gradFill rotWithShape="0">
            <a:gsLst>
              <a:gs pos="0">
                <a:srgbClr val="adff5b"/>
              </a:gs>
              <a:gs pos="50000">
                <a:srgbClr val="50762a"/>
              </a:gs>
              <a:gs pos="100000">
                <a:srgbClr val="adff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Line 26"/>
          <p:cNvSpPr/>
          <p:nvPr/>
        </p:nvSpPr>
        <p:spPr>
          <a:xfrm>
            <a:off x="6451560" y="2343240"/>
            <a:ext cx="73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7162920" y="205740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5731200" y="1489680"/>
            <a:ext cx="502200" cy="459000"/>
          </a:xfrm>
          <a:prstGeom prst="rect">
            <a:avLst/>
          </a:prstGeom>
          <a:solidFill>
            <a:srgbClr val="dffb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/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6089400" y="247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8055360" y="2655000"/>
            <a:ext cx="429120" cy="276480"/>
          </a:xfrm>
          <a:prstGeom prst="rect">
            <a:avLst/>
          </a:prstGeom>
          <a:solidFill>
            <a:srgbClr val="dffb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AutoShape 31"/>
          <p:cNvSpPr/>
          <p:nvPr/>
        </p:nvSpPr>
        <p:spPr>
          <a:xfrm>
            <a:off x="304920" y="685800"/>
            <a:ext cx="8610480" cy="576000"/>
          </a:xfrm>
          <a:prstGeom prst="roundRect">
            <a:avLst>
              <a:gd name="adj" fmla="val 16667"/>
            </a:avLst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RAPIDEZ MEDIA  - 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la rapidez media ( Eje Y) frente a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AutoShape 32"/>
          <p:cNvSpPr/>
          <p:nvPr/>
        </p:nvSpPr>
        <p:spPr>
          <a:xfrm>
            <a:off x="950040" y="1451520"/>
            <a:ext cx="3874680" cy="276480"/>
          </a:xfrm>
          <a:custGeom>
            <a:avLst/>
            <a:gdLst>
              <a:gd name="textAreaLeft" fmla="*/ 0 w 3874680"/>
              <a:gd name="textAreaRight" fmla="*/ 3875040 w 38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82" y="0"/>
                </a:lnTo>
                <a:lnTo>
                  <a:pt x="21600" y="10800"/>
                </a:lnTo>
                <a:lnTo>
                  <a:pt x="191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4fcf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rapide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AutoShape 33"/>
          <p:cNvSpPr/>
          <p:nvPr/>
        </p:nvSpPr>
        <p:spPr>
          <a:xfrm>
            <a:off x="609480" y="1832400"/>
            <a:ext cx="4775400" cy="276480"/>
          </a:xfrm>
          <a:custGeom>
            <a:avLst/>
            <a:gdLst>
              <a:gd name="textAreaLeft" fmla="*/ 0 w 4775400"/>
              <a:gd name="textAreaRight" fmla="*/ 4775760 w 47754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4" y="0"/>
                </a:lnTo>
                <a:lnTo>
                  <a:pt x="21600" y="10800"/>
                </a:lnTo>
                <a:lnTo>
                  <a:pt x="19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e8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rapide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no medid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AutoShape 34"/>
          <p:cNvSpPr/>
          <p:nvPr/>
        </p:nvSpPr>
        <p:spPr>
          <a:xfrm>
            <a:off x="609480" y="2288160"/>
            <a:ext cx="4876920" cy="64188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641880"/>
              <a:gd name="textAreaBottom" fmla="*/ 642240 h 64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6" y="0"/>
                </a:lnTo>
                <a:lnTo>
                  <a:pt x="21600" y="10800"/>
                </a:lnTo>
                <a:lnTo>
                  <a:pt x="189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6e9f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área encerrada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ntre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la gráfica y el eje de abcisas es el espacio recorrido por el móvil en ese tiemp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380880" y="4114800"/>
            <a:ext cx="4267440" cy="1828800"/>
          </a:xfrm>
          <a:prstGeom prst="rect">
            <a:avLst/>
          </a:prstGeom>
          <a:solidFill>
            <a:srgbClr val="d6fef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36"/>
          <p:cNvSpPr/>
          <p:nvPr/>
        </p:nvSpPr>
        <p:spPr>
          <a:xfrm>
            <a:off x="1320840" y="45720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1320840" y="5315040"/>
            <a:ext cx="325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8"/>
          <p:cNvSpPr/>
          <p:nvPr/>
        </p:nvSpPr>
        <p:spPr>
          <a:xfrm>
            <a:off x="3556080" y="5315040"/>
            <a:ext cx="71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320840" y="5315040"/>
            <a:ext cx="812880" cy="342720"/>
          </a:xfrm>
          <a:prstGeom prst="rect">
            <a:avLst/>
          </a:prstGeom>
          <a:gradFill rotWithShape="0">
            <a:gsLst>
              <a:gs pos="0">
                <a:srgbClr val="ffefff"/>
              </a:gs>
              <a:gs pos="50000">
                <a:srgbClr val="766f76"/>
              </a:gs>
              <a:gs pos="100000">
                <a:srgbClr val="ffe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40"/>
          <p:cNvSpPr/>
          <p:nvPr/>
        </p:nvSpPr>
        <p:spPr>
          <a:xfrm>
            <a:off x="1320840" y="5657760"/>
            <a:ext cx="81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2133720" y="4971960"/>
            <a:ext cx="1422360" cy="343080"/>
          </a:xfrm>
          <a:prstGeom prst="rect">
            <a:avLst/>
          </a:prstGeom>
          <a:gradFill rotWithShape="0">
            <a:gsLst>
              <a:gs pos="0">
                <a:srgbClr val="8dbbff"/>
              </a:gs>
              <a:gs pos="50000">
                <a:srgbClr val="415776"/>
              </a:gs>
              <a:gs pos="100000">
                <a:srgbClr val="8dbb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507960" y="4485600"/>
            <a:ext cx="711360" cy="45900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/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43"/>
          <p:cNvSpPr/>
          <p:nvPr/>
        </p:nvSpPr>
        <p:spPr>
          <a:xfrm>
            <a:off x="2133720" y="49719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4043160" y="5397480"/>
            <a:ext cx="429120" cy="27648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812880" y="522288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AutoShape 46"/>
          <p:cNvSpPr/>
          <p:nvPr/>
        </p:nvSpPr>
        <p:spPr>
          <a:xfrm>
            <a:off x="304920" y="3200400"/>
            <a:ext cx="8610480" cy="576000"/>
          </a:xfrm>
          <a:prstGeom prst="roundRect">
            <a:avLst>
              <a:gd name="adj" fmla="val 16667"/>
            </a:avLst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 VELOCIDAD  MEDIA  - 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la velocidad media ( Eje Y) frente a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AutoShape 47"/>
          <p:cNvSpPr/>
          <p:nvPr/>
        </p:nvSpPr>
        <p:spPr>
          <a:xfrm rot="10800000">
            <a:off x="4724280" y="4424040"/>
            <a:ext cx="4221360" cy="458640"/>
          </a:xfrm>
          <a:custGeom>
            <a:avLst/>
            <a:gdLst>
              <a:gd name="textAreaLeft" fmla="*/ 0 w 4221360"/>
              <a:gd name="textAreaRight" fmla="*/ 4221720 w 4221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8" y="0"/>
                </a:lnTo>
                <a:lnTo>
                  <a:pt x="21600" y="10800"/>
                </a:lnTo>
                <a:lnTo>
                  <a:pt x="194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fb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es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AutoShape 48"/>
          <p:cNvSpPr/>
          <p:nvPr/>
        </p:nvSpPr>
        <p:spPr>
          <a:xfrm rot="10800000">
            <a:off x="4724280" y="3981960"/>
            <a:ext cx="4214880" cy="27612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2" y="0"/>
                </a:lnTo>
                <a:lnTo>
                  <a:pt x="21600" y="10800"/>
                </a:lnTo>
                <a:lnTo>
                  <a:pt x="198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f7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velocidades  no medidas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AutoShape 49"/>
          <p:cNvSpPr/>
          <p:nvPr/>
        </p:nvSpPr>
        <p:spPr>
          <a:xfrm rot="10800000">
            <a:off x="4723920" y="4957560"/>
            <a:ext cx="4218120" cy="641160"/>
          </a:xfrm>
          <a:custGeom>
            <a:avLst/>
            <a:gdLst>
              <a:gd name="textAreaLeft" fmla="*/ 0 w 4218120"/>
              <a:gd name="textAreaRight" fmla="*/ 4218480 w 421812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1" y="0"/>
                </a:lnTo>
                <a:lnTo>
                  <a:pt x="21600" y="10800"/>
                </a:lnTo>
                <a:lnTo>
                  <a:pt x="19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6e7f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l área encerrada por la gráfica y el eje de abcisas es el espacio recorrido por el móvil en ese tiemp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AutoShape 50"/>
          <p:cNvSpPr/>
          <p:nvPr/>
        </p:nvSpPr>
        <p:spPr>
          <a:xfrm rot="10800000">
            <a:off x="4876920" y="5719680"/>
            <a:ext cx="4114800" cy="6411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ebf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uesto que el desplazamiento puede ser + o – la gráfica puede aparecer por encima o por debajo del eje X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828800" y="3313080"/>
            <a:ext cx="5181480" cy="630360"/>
          </a:xfrm>
          <a:prstGeom prst="rect">
            <a:avLst/>
          </a:prstGeom>
          <a:solidFill>
            <a:srgbClr val="def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  - 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espacio recorrido por el móvil en el tiempo t - t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33520" y="2868480"/>
            <a:ext cx="8229600" cy="605520"/>
          </a:xfrm>
          <a:prstGeom prst="rect">
            <a:avLst/>
          </a:prstGeom>
          <a:solidFill>
            <a:srgbClr val="eaf8b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final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=  s = posición del móvil medida  sobre la trayectoria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en  el  instante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onsiderad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572000" y="4952880"/>
            <a:ext cx="16257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= v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7238880" y="4419720"/>
            <a:ext cx="152424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= s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 + v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828800" y="914400"/>
            <a:ext cx="5867280" cy="340200"/>
          </a:xfrm>
          <a:prstGeom prst="roundRect">
            <a:avLst>
              <a:gd name="adj" fmla="val 16667"/>
            </a:avLst>
          </a:prstGeom>
          <a:solidFill>
            <a:srgbClr val="f3fbd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 móvil recorre espacios iguales en tiempos iguales.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48520" y="1738080"/>
            <a:ext cx="2235240" cy="7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 = s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 + v (t-t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209680" y="4132080"/>
            <a:ext cx="4267440" cy="423000"/>
          </a:xfrm>
          <a:prstGeom prst="rect">
            <a:avLst/>
          </a:prstGeom>
          <a:solidFill>
            <a:srgbClr val="f4e74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final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t = instante considerad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4876920" y="1886040"/>
            <a:ext cx="1218960" cy="35064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87480 h 350640"/>
              <a:gd name="textAreaBottom" fmla="*/ 263160 h 350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dc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609480" y="3792960"/>
            <a:ext cx="7925040" cy="491400"/>
          </a:xfrm>
          <a:prstGeom prst="rect">
            <a:avLst/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s-ES_tradnl" sz="1200" spc="-1" strike="noStrike" baseline="-30000">
                <a:solidFill>
                  <a:srgbClr val="000066"/>
                </a:solidFill>
                <a:latin typeface="Times New Roman"/>
              </a:rPr>
              <a:t>inicial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= t </a:t>
            </a:r>
            <a:r>
              <a:rPr b="1" lang="es-ES_tradnl" sz="1200" spc="-1" strike="noStrike" baseline="-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= instante en que comienza la observación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AutoShape 12"/>
          <p:cNvSpPr/>
          <p:nvPr/>
        </p:nvSpPr>
        <p:spPr>
          <a:xfrm>
            <a:off x="609480" y="4604760"/>
            <a:ext cx="6604200" cy="301320"/>
          </a:xfrm>
          <a:custGeom>
            <a:avLst/>
            <a:gdLst>
              <a:gd name="textAreaLeft" fmla="*/ 0 w 6604200"/>
              <a:gd name="textAreaRight" fmla="*/ 6604560 w 660420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46" y="0"/>
                </a:lnTo>
                <a:lnTo>
                  <a:pt x="21600" y="10800"/>
                </a:lnTo>
                <a:lnTo>
                  <a:pt x="208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cc7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se comienza a cronometrar cuando comienza la observación  t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=0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AutoShape 13"/>
          <p:cNvSpPr/>
          <p:nvPr/>
        </p:nvSpPr>
        <p:spPr>
          <a:xfrm>
            <a:off x="3336480" y="5061960"/>
            <a:ext cx="804240" cy="301320"/>
          </a:xfrm>
          <a:custGeom>
            <a:avLst/>
            <a:gdLst>
              <a:gd name="textAreaLeft" fmla="*/ 0 w 804240"/>
              <a:gd name="textAreaRight" fmla="*/ 804600 w 8042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b97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 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" name="Group 14"/>
          <p:cNvGrpSpPr/>
          <p:nvPr/>
        </p:nvGrpSpPr>
        <p:grpSpPr>
          <a:xfrm>
            <a:off x="3429000" y="1752480"/>
            <a:ext cx="1320840" cy="691200"/>
            <a:chOff x="3429000" y="1752480"/>
            <a:chExt cx="1320840" cy="691200"/>
          </a:xfrm>
        </p:grpSpPr>
        <p:sp>
          <p:nvSpPr>
            <p:cNvPr id="316" name="Rectangle 15"/>
            <p:cNvSpPr/>
            <p:nvPr/>
          </p:nvSpPr>
          <p:spPr>
            <a:xfrm>
              <a:off x="3429000" y="1752480"/>
              <a:ext cx="132084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</a:t>
              </a: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s  - s</a:t>
              </a:r>
              <a:r>
                <a:rPr b="0" lang="es-ES_tradnl" sz="1200" spc="-1" strike="noStrike" baseline="-25000">
                  <a:solidFill>
                    <a:srgbClr val="000066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v =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Arial"/>
                </a:rPr>
                <a:t>         </a:t>
              </a: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t - t</a:t>
              </a:r>
              <a:r>
                <a:rPr b="0" lang="es-ES" sz="12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4114800" y="2057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8" name="AutoShape 17"/>
          <p:cNvSpPr/>
          <p:nvPr/>
        </p:nvSpPr>
        <p:spPr>
          <a:xfrm>
            <a:off x="1523880" y="1295280"/>
            <a:ext cx="6629400" cy="340200"/>
          </a:xfrm>
          <a:prstGeom prst="roundRect">
            <a:avLst>
              <a:gd name="adj" fmla="val 16667"/>
            </a:avLst>
          </a:prstGeom>
          <a:solidFill>
            <a:srgbClr val="dafdc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a rapidez media coincide con la instantánea que se mantiene constante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AutoShape 18"/>
          <p:cNvSpPr/>
          <p:nvPr/>
        </p:nvSpPr>
        <p:spPr>
          <a:xfrm>
            <a:off x="711360" y="1789200"/>
            <a:ext cx="2641320" cy="520560"/>
          </a:xfrm>
          <a:prstGeom prst="rightArrowCallout">
            <a:avLst>
              <a:gd name="adj1" fmla="val 25002"/>
              <a:gd name="adj2" fmla="val 25000"/>
              <a:gd name="adj3" fmla="val 84567"/>
              <a:gd name="adj4" fmla="val 66667"/>
            </a:avLst>
          </a:prstGeom>
          <a:solidFill>
            <a:srgbClr val="b0e8b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A partir de la definición de rapidez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33520" y="2476080"/>
            <a:ext cx="8229600" cy="605520"/>
          </a:xfrm>
          <a:prstGeom prst="rect">
            <a:avLst/>
          </a:prstGeom>
          <a:solidFill>
            <a:srgbClr val="c7f78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inicial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=s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posición del móvil medida  sobre la trayectoria cuando comienza la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observación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2209680" y="295560"/>
            <a:ext cx="5257800" cy="441000"/>
          </a:xfrm>
          <a:custGeom>
            <a:avLst/>
            <a:gdLst>
              <a:gd name="textAreaLeft" fmla="*/ 51840 w 5257800"/>
              <a:gd name="textAreaRight" fmla="*/ 5205960 w 5257800"/>
              <a:gd name="textAreaTop" fmla="*/ 51840 h 441000"/>
              <a:gd name="textAreaBottom" fmla="*/ 389160 h 441000"/>
            </a:gdLst>
            <a:ahLst/>
            <a:rect l="textAreaLeft" t="textAreaTop" r="textAreaRight" b="textAreaBottom"/>
            <a:pathLst>
              <a:path w="2573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3732" y="21600"/>
                </a:lnTo>
                <a:arcTo wR="3600" hR="3600" stAng="10800000" swAng="5400000"/>
                <a:lnTo>
                  <a:pt x="257332" y="3600"/>
                </a:lnTo>
                <a:arcTo wR="3600" hR="3600" stAng="5400000" swAng="5400000"/>
                <a:close/>
              </a:path>
            </a:pathLst>
          </a:custGeom>
          <a:solidFill>
            <a:srgbClr val="64f2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MOVIMIENTO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 UNIFORM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2133720" y="5475960"/>
            <a:ext cx="4876560" cy="408600"/>
          </a:xfrm>
          <a:prstGeom prst="bevel">
            <a:avLst>
              <a:gd name="adj" fmla="val 12500"/>
            </a:avLst>
          </a:prstGeom>
          <a:solidFill>
            <a:srgbClr val="fdd5c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tas ecuaciones sirven para cualquier trayectori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09480" y="5856840"/>
            <a:ext cx="8197920" cy="408600"/>
          </a:xfrm>
          <a:prstGeom prst="bevel">
            <a:avLst>
              <a:gd name="adj" fmla="val 12500"/>
            </a:avLst>
          </a:prstGeom>
          <a:solidFill>
            <a:srgbClr val="fbad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s gráficas espacio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tiempo o  posición –tiempo  son rectas cuya pendiente es la veloci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47:51Z</dcterms:created>
  <dc:creator>Celia</dc:creator>
  <dc:description/>
  <dc:language>en-US</dc:language>
  <cp:lastModifiedBy>Celia Rodríguez</cp:lastModifiedBy>
  <dcterms:modified xsi:type="dcterms:W3CDTF">2009-10-30T14:08:59Z</dcterms:modified>
  <cp:revision>145</cp:revision>
  <dc:subject/>
  <dc:title>Presentación de PowerPoint</dc:title>
</cp:coreProperties>
</file>